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0" y="0"/>
            <a:ext cx="30877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209600" y="704520"/>
            <a:ext cx="4673520" cy="34974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67480" cy="4203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0" y="8937720"/>
            <a:ext cx="3087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1"/>
          </p:nvPr>
        </p:nvSpPr>
        <p:spPr>
          <a:xfrm>
            <a:off x="4035600" y="8937360"/>
            <a:ext cx="3055680" cy="439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D7C4F-DCFA-4124-B9A9-9F7DBE052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6"/>
          <p:cNvSpPr/>
          <p:nvPr/>
        </p:nvSpPr>
        <p:spPr>
          <a:xfrm>
            <a:off x="4035600" y="8937720"/>
            <a:ext cx="30556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2E0BF-C55C-4A29-963B-2B238B5E8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8ADA3-3E8D-417D-B5EF-3DFEC2B87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6"/>
          <p:cNvSpPr/>
          <p:nvPr/>
        </p:nvSpPr>
        <p:spPr>
          <a:xfrm>
            <a:off x="4035600" y="8937720"/>
            <a:ext cx="30556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8E6CF-1B94-4374-BE36-90339E16F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B23D7-89C5-4D16-98C3-A4630492D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6"/>
          <p:cNvSpPr/>
          <p:nvPr/>
        </p:nvSpPr>
        <p:spPr>
          <a:xfrm>
            <a:off x="4035600" y="8937720"/>
            <a:ext cx="30556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2CA18-2D01-449F-927F-67A46F759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A0EA1-7BC8-4B60-B166-834F69899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216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1979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33280"/>
            <a:ext cx="81979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216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003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8040" y="1060560"/>
            <a:ext cx="40003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33280"/>
            <a:ext cx="40003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8040" y="3833280"/>
            <a:ext cx="40003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216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395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9200" y="1060560"/>
            <a:ext cx="26395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0840" y="1060560"/>
            <a:ext cx="26395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33280"/>
            <a:ext cx="26395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9200" y="3833280"/>
            <a:ext cx="26395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0840" y="3833280"/>
            <a:ext cx="26395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216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197920" cy="53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216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19792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216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0032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8040" y="1060560"/>
            <a:ext cx="400032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216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21640" cy="26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216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003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8040" y="1060560"/>
            <a:ext cx="400032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33280"/>
            <a:ext cx="40003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216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0032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8040" y="1060560"/>
            <a:ext cx="40003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8040" y="3833280"/>
            <a:ext cx="40003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216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003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8040" y="1060560"/>
            <a:ext cx="40003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33280"/>
            <a:ext cx="81979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19792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216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6 - </a:t>
            </a:r>
            <a:fld id="{0AD411B5-D57C-4B90-B29A-2556AF8808DE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457200" y="201600"/>
            <a:ext cx="682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reparing a Document for Deli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457200" y="1060560"/>
            <a:ext cx="8199360" cy="53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4320" indent="-182880">
              <a:spcBef>
                <a:spcPts val="499"/>
              </a:spcBef>
              <a:buClr>
                <a:srgbClr val="0084d1"/>
              </a:buClr>
              <a:buFont typeface="Wingdings" charset="2"/>
              <a:buChar char=""/>
              <a:tabLst>
                <a:tab algn="l" pos="184320"/>
                <a:tab algn="l" pos="297000"/>
                <a:tab algn="l" pos="754200"/>
                <a:tab algn="l" pos="1211400"/>
                <a:tab algn="l" pos="1668600"/>
                <a:tab algn="l" pos="2125800"/>
                <a:tab algn="l" pos="2583000"/>
                <a:tab algn="l" pos="3040200"/>
                <a:tab algn="l" pos="3497400"/>
                <a:tab algn="l" pos="3954600"/>
                <a:tab algn="l" pos="4411800"/>
                <a:tab algn="l" pos="4869000"/>
                <a:tab algn="l" pos="5326200"/>
                <a:tab algn="l" pos="5783400"/>
                <a:tab algn="l" pos="6240600"/>
                <a:tab algn="l" pos="6697800"/>
                <a:tab algn="l" pos="7155000"/>
                <a:tab algn="l" pos="7612200"/>
                <a:tab algn="l" pos="8069400"/>
                <a:tab algn="l" pos="852660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lve Errors in a Docume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4320" indent="-182880">
              <a:spcBef>
                <a:spcPts val="499"/>
              </a:spcBef>
              <a:buClr>
                <a:srgbClr val="0084d1"/>
              </a:buClr>
              <a:buFont typeface="Wingdings" charset="2"/>
              <a:buChar char=""/>
              <a:tabLst>
                <a:tab algn="l" pos="184320"/>
                <a:tab algn="l" pos="297000"/>
                <a:tab algn="l" pos="754200"/>
                <a:tab algn="l" pos="1211400"/>
                <a:tab algn="l" pos="1668600"/>
                <a:tab algn="l" pos="2125800"/>
                <a:tab algn="l" pos="2583000"/>
                <a:tab algn="l" pos="3040200"/>
                <a:tab algn="l" pos="3497400"/>
                <a:tab algn="l" pos="3954600"/>
                <a:tab algn="l" pos="4411800"/>
                <a:tab algn="l" pos="4869000"/>
                <a:tab algn="l" pos="5326200"/>
                <a:tab algn="l" pos="5783400"/>
                <a:tab algn="l" pos="6240600"/>
                <a:tab algn="l" pos="6697800"/>
                <a:tab algn="l" pos="7155000"/>
                <a:tab algn="l" pos="7612200"/>
                <a:tab algn="l" pos="8069400"/>
                <a:tab algn="l" pos="852660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 a Docu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4320" indent="-182880">
              <a:spcBef>
                <a:spcPts val="499"/>
              </a:spcBef>
              <a:buClr>
                <a:srgbClr val="0084d1"/>
              </a:buClr>
              <a:buFont typeface="Wingdings" charset="2"/>
              <a:buChar char=""/>
              <a:tabLst>
                <a:tab algn="l" pos="184320"/>
                <a:tab algn="l" pos="297000"/>
                <a:tab algn="l" pos="754200"/>
                <a:tab algn="l" pos="1211400"/>
                <a:tab algn="l" pos="1668600"/>
                <a:tab algn="l" pos="2125800"/>
                <a:tab algn="l" pos="2583000"/>
                <a:tab algn="l" pos="3040200"/>
                <a:tab algn="l" pos="3497400"/>
                <a:tab algn="l" pos="3954600"/>
                <a:tab algn="l" pos="4411800"/>
                <a:tab algn="l" pos="4869000"/>
                <a:tab algn="l" pos="5326200"/>
                <a:tab algn="l" pos="5783400"/>
                <a:tab algn="l" pos="6240600"/>
                <a:tab algn="l" pos="6697800"/>
                <a:tab algn="l" pos="7155000"/>
                <a:tab algn="l" pos="7612200"/>
                <a:tab algn="l" pos="8069400"/>
                <a:tab algn="l" pos="852660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ckage a Docume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4320" indent="-182880">
              <a:spcBef>
                <a:spcPts val="499"/>
              </a:spcBef>
              <a:buClr>
                <a:srgbClr val="0084d1"/>
              </a:buClr>
              <a:buFont typeface="Wingdings" charset="2"/>
              <a:buChar char=""/>
              <a:tabLst>
                <a:tab algn="l" pos="184320"/>
                <a:tab algn="l" pos="297000"/>
                <a:tab algn="l" pos="754200"/>
                <a:tab algn="l" pos="1211400"/>
                <a:tab algn="l" pos="1668600"/>
                <a:tab algn="l" pos="2125800"/>
                <a:tab algn="l" pos="2583000"/>
                <a:tab algn="l" pos="3040200"/>
                <a:tab algn="l" pos="3497400"/>
                <a:tab algn="l" pos="3954600"/>
                <a:tab algn="l" pos="4411800"/>
                <a:tab algn="l" pos="4869000"/>
                <a:tab algn="l" pos="5326200"/>
                <a:tab algn="l" pos="5783400"/>
                <a:tab algn="l" pos="6240600"/>
                <a:tab algn="l" pos="6697800"/>
                <a:tab algn="l" pos="7155000"/>
                <a:tab algn="l" pos="7612200"/>
                <a:tab algn="l" pos="8069400"/>
                <a:tab algn="l" pos="852660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ort Files for Prin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4320" indent="-182880">
              <a:spcBef>
                <a:spcPts val="499"/>
              </a:spcBef>
              <a:buClr>
                <a:srgbClr val="0084d1"/>
              </a:buClr>
              <a:buFont typeface="Wingdings" charset="2"/>
              <a:buChar char=""/>
              <a:tabLst>
                <a:tab algn="l" pos="184320"/>
                <a:tab algn="l" pos="297000"/>
                <a:tab algn="l" pos="754200"/>
                <a:tab algn="l" pos="1211400"/>
                <a:tab algn="l" pos="1668600"/>
                <a:tab algn="l" pos="2125800"/>
                <a:tab algn="l" pos="2583000"/>
                <a:tab algn="l" pos="3040200"/>
                <a:tab algn="l" pos="3497400"/>
                <a:tab algn="l" pos="3954600"/>
                <a:tab algn="l" pos="4411800"/>
                <a:tab algn="l" pos="4869000"/>
                <a:tab algn="l" pos="5326200"/>
                <a:tab algn="l" pos="5783400"/>
                <a:tab algn="l" pos="6240600"/>
                <a:tab algn="l" pos="6697800"/>
                <a:tab algn="l" pos="7155000"/>
                <a:tab algn="l" pos="7612200"/>
                <a:tab algn="l" pos="8069400"/>
                <a:tab algn="l" pos="852660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ort Files for the We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Preflight Pa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549520" y="1527120"/>
            <a:ext cx="6226200" cy="3803760"/>
          </a:xfrm>
          <a:prstGeom prst="rect">
            <a:avLst/>
          </a:prstGeom>
          <a:ln w="0">
            <a:noFill/>
          </a:ln>
        </p:spPr>
      </p:pic>
      <p:sp>
        <p:nvSpPr>
          <p:cNvPr id="73" name="Line 3"/>
          <p:cNvSpPr/>
          <p:nvPr/>
        </p:nvSpPr>
        <p:spPr>
          <a:xfrm>
            <a:off x="2030400" y="4964040"/>
            <a:ext cx="581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554040" y="4805280"/>
            <a:ext cx="1720800" cy="320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flight ic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 flipH="1">
            <a:off x="2352600" y="2619360"/>
            <a:ext cx="109440" cy="863640"/>
          </a:xfrm>
          <a:custGeom>
            <a:avLst/>
            <a:gdLst>
              <a:gd name="textAreaLeft" fmla="*/ 0 w 109440"/>
              <a:gd name="textAreaRight" fmla="*/ 39600 w 10944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 flipH="1">
            <a:off x="2352600" y="3854520"/>
            <a:ext cx="109440" cy="863640"/>
          </a:xfrm>
          <a:custGeom>
            <a:avLst/>
            <a:gdLst>
              <a:gd name="textAreaLeft" fmla="*/ 0 w 109440"/>
              <a:gd name="textAreaRight" fmla="*/ 39600 w 10944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546120" y="4114800"/>
            <a:ext cx="1720800" cy="320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fo window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549360" y="2865600"/>
            <a:ext cx="1720800" cy="32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rror window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spcBef>
                <a:spcPts val="400"/>
              </a:spcBef>
              <a:spcAft>
                <a:spcPts val="1800"/>
              </a:spcAft>
              <a:buClr>
                <a:srgbClr val="009ddc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eatures that InDesign offers for preparing a file for delivery are extremely useful and save you from potential headaches. Can you think of possible scenarios that can be avoided by using these featur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ricia Murphy</cp:lastModifiedBy>
  <dcterms:modified xsi:type="dcterms:W3CDTF">2012-08-31T01:43:20Z</dcterms:modified>
  <cp:revision>79</cp:revision>
  <dc:subject>Courseware Resource Supplement</dc:subject>
  <dc:title>OV-ILT Template –  Content Developer Section</dc:title>
</cp:coreProperties>
</file>