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72080" cy="3495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65680" cy="4201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4035600" y="8937360"/>
            <a:ext cx="3054240" cy="43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0A3D-0714-40FC-A5B3-8A63D8C9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8B4F-ADD2-466B-8823-11DFD283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6C549-928C-4577-A53A-AF3B3E15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26839-053B-4910-A494-8AFA5162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61264-69CA-464C-8F09-4C085FE3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EAB29-7662-4520-9E27-4CD554019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140DB-09AE-4605-8F4A-DD1D542C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65589-1F78-43C5-89A5-FB3A8F9A7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CB458-BBFE-4ABF-BE3D-84BB84F3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67D03-9D64-414B-A3B5-79900F7F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5B69B-FC8E-4B69-AAD2-BF31AFAD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EDF2B-6EB1-4619-BA4E-E76D3D1F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D5FDD-FAF2-4C62-9E3B-38AC5059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B9A6F-4B97-486E-B020-5D5EAACC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05C54-8EDF-4A1C-A204-D53D6272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41B3-EB6D-4781-B23F-37F295BF0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6360-1788-4493-BE0A-F201C1C4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EFB31-1E96-4F74-A43A-CB07DC7B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E780C-7A1E-472F-9800-31B27E3C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A04C-1BB4-4AC0-9BDC-578658EA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F8B29-BC1A-4516-A9C2-6C7DA00B3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B9EB5-F1C1-4128-9E19-826391D7E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D3724-1F90-48EA-847A-51287B5B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2F4C-10FF-4DBC-B223-1ABBE66F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6A704-AA92-43A8-A4F9-A80FF145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7"/>
          <p:cNvSpPr/>
          <p:nvPr/>
        </p:nvSpPr>
        <p:spPr>
          <a:xfrm>
            <a:off x="4035600" y="8937720"/>
            <a:ext cx="3054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E43AE-8097-4C08-8307-B4858AC9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4035600" y="8937720"/>
            <a:ext cx="3057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A26B-8D42-4082-86F5-A3F8C49B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812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040" y="1060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812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040" y="3832200"/>
            <a:ext cx="26388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68198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6960" y="3832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960" y="1060200"/>
            <a:ext cx="399960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32200"/>
            <a:ext cx="819612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060200"/>
            <a:ext cx="8196120" cy="53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1240"/>
            <a:ext cx="6819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51640"/>
            <a:ext cx="9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- </a:t>
            </a:r>
            <a:fld id="{8F04BF34-7800-4D90-81E2-C550379CBA54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01600"/>
            <a:ext cx="68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signing A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060560"/>
            <a:ext cx="819936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ext to a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4320" indent="-1828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4320"/>
                <a:tab algn="l" pos="641520"/>
                <a:tab algn="l" pos="1098720"/>
                <a:tab algn="l" pos="1555920"/>
                <a:tab algn="l" pos="2013120"/>
                <a:tab algn="l" pos="2470320"/>
                <a:tab algn="l" pos="2927520"/>
                <a:tab algn="l" pos="3384720"/>
                <a:tab algn="l" pos="3841920"/>
                <a:tab algn="l" pos="4299120"/>
                <a:tab algn="l" pos="4756320"/>
                <a:tab algn="l" pos="5213520"/>
                <a:tab algn="l" pos="5670720"/>
                <a:tab algn="l" pos="6127920"/>
                <a:tab algn="l" pos="6585120"/>
                <a:tab algn="l" pos="7042320"/>
                <a:tab algn="l" pos="7499520"/>
                <a:tab algn="l" pos="7956720"/>
                <a:tab algn="l" pos="8413920"/>
                <a:tab algn="l" pos="8871120"/>
                <a:tab algn="l" pos="932832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Graphics to a 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"/>
          <p:cNvSpPr/>
          <p:nvPr/>
        </p:nvSpPr>
        <p:spPr>
          <a:xfrm flipH="1">
            <a:off x="4912920" y="2843280"/>
            <a:ext cx="1141560" cy="144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4660920" y="2476440"/>
            <a:ext cx="1335240" cy="180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3303720" y="2841480"/>
            <a:ext cx="8636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700440" y="2914560"/>
            <a:ext cx="205740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Wrap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300480" y="3341520"/>
            <a:ext cx="4982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1363680" y="3206880"/>
            <a:ext cx="2149560" cy="26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text wrap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 flipH="1">
            <a:off x="3582360" y="3538440"/>
            <a:ext cx="174600" cy="441360"/>
          </a:xfrm>
          <a:custGeom>
            <a:avLst/>
            <a:gdLst>
              <a:gd name="textAreaLeft" fmla="*/ 0 w 174600"/>
              <a:gd name="textAreaRight" fmla="*/ 63000 w 174600"/>
              <a:gd name="textAreaTop" fmla="*/ 11520 h 441360"/>
              <a:gd name="textAreaBottom" fmla="*/ 429840 h 4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 flipH="1">
            <a:off x="3571200" y="3995640"/>
            <a:ext cx="174600" cy="441360"/>
          </a:xfrm>
          <a:custGeom>
            <a:avLst/>
            <a:gdLst>
              <a:gd name="textAreaLeft" fmla="*/ 0 w 174600"/>
              <a:gd name="textAreaRight" fmla="*/ 63000 w 174600"/>
              <a:gd name="textAreaTop" fmla="*/ 11520 h 441360"/>
              <a:gd name="textAreaBottom" fmla="*/ 429840 h 4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 flipH="1">
            <a:off x="3571200" y="4438800"/>
            <a:ext cx="174600" cy="441000"/>
          </a:xfrm>
          <a:custGeom>
            <a:avLst/>
            <a:gdLst>
              <a:gd name="textAreaLeft" fmla="*/ 0 w 174600"/>
              <a:gd name="textAreaRight" fmla="*/ 63000 w 174600"/>
              <a:gd name="textAreaTop" fmla="*/ 11160 h 441000"/>
              <a:gd name="textAreaBottom" fmla="*/ 429840 h 44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162240" y="3763800"/>
            <a:ext cx="49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1368360" y="3629160"/>
            <a:ext cx="2149560" cy="26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set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125880" y="4202280"/>
            <a:ext cx="4982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1368360" y="4067280"/>
            <a:ext cx="2149560" cy="26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rap Options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3125880" y="4641840"/>
            <a:ext cx="4982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368360" y="4508640"/>
            <a:ext cx="2149560" cy="26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our Options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3303720" y="5079960"/>
            <a:ext cx="4982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92280" y="4944960"/>
            <a:ext cx="2822400" cy="25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 Inside Edges check box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5522760" y="3378240"/>
            <a:ext cx="49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5888160" y="3243240"/>
            <a:ext cx="147960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ert Check Box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876240" y="2689200"/>
            <a:ext cx="264024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rap around bounding box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165560" y="2843280"/>
            <a:ext cx="180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882720" y="2314440"/>
            <a:ext cx="263988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rap around object shape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4427640" y="2470320"/>
            <a:ext cx="1440" cy="830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 flipH="1">
            <a:off x="3502080" y="2470320"/>
            <a:ext cx="947520" cy="1440"/>
          </a:xfrm>
          <a:prstGeom prst="line">
            <a:avLst/>
          </a:prstGeom>
          <a:ln cap="sq"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5911920" y="2689200"/>
            <a:ext cx="218736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mp to Next Column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5916600" y="2314440"/>
            <a:ext cx="172548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mp Object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4660920" y="2476440"/>
            <a:ext cx="1440" cy="822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4935600" y="2843280"/>
            <a:ext cx="144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4754520" y="3790800"/>
            <a:ext cx="130500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5927760" y="3657600"/>
            <a:ext cx="2576520" cy="26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ke all settings the same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Info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57400" y="1258920"/>
            <a:ext cx="6850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909880" y="1952640"/>
            <a:ext cx="3963960" cy="4138560"/>
          </a:xfrm>
          <a:prstGeom prst="rect">
            <a:avLst/>
          </a:prstGeom>
          <a:ln w="0">
            <a:noFill/>
          </a:ln>
        </p:spPr>
      </p:pic>
      <p:sp>
        <p:nvSpPr>
          <p:cNvPr id="136" name="Line 2"/>
          <p:cNvSpPr/>
          <p:nvPr/>
        </p:nvSpPr>
        <p:spPr>
          <a:xfrm>
            <a:off x="4818240" y="1717560"/>
            <a:ext cx="2880" cy="862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Links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374920" y="2693880"/>
            <a:ext cx="53496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249200" y="2550960"/>
            <a:ext cx="1354320" cy="2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4152960" y="1517760"/>
            <a:ext cx="1353960" cy="28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308240" y="4875120"/>
            <a:ext cx="1353960" cy="2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k Inf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flipH="1">
            <a:off x="2719440" y="4268880"/>
            <a:ext cx="187200" cy="1481040"/>
          </a:xfrm>
          <a:custGeom>
            <a:avLst/>
            <a:gdLst>
              <a:gd name="textAreaLeft" fmla="*/ 0 w 187200"/>
              <a:gd name="textAreaRight" fmla="*/ 67680 w 187200"/>
              <a:gd name="textAreaTop" fmla="*/ 38520 h 1481040"/>
              <a:gd name="textAreaBottom" fmla="*/ 1442520 h 14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 preset that would be helpfu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re some ways in which the Text Wrap feature would come in handy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 Document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36600" y="1542960"/>
            <a:ext cx="489456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049560" y="2571840"/>
            <a:ext cx="2776680" cy="1630440"/>
          </a:xfrm>
          <a:prstGeom prst="rect">
            <a:avLst/>
          </a:prstGeom>
          <a:ln w="0">
            <a:noFill/>
          </a:ln>
        </p:spPr>
      </p:pic>
      <p:sp>
        <p:nvSpPr>
          <p:cNvPr id="75" name="Line 2"/>
          <p:cNvSpPr/>
          <p:nvPr/>
        </p:nvSpPr>
        <p:spPr>
          <a:xfrm>
            <a:off x="2243160" y="3003480"/>
            <a:ext cx="93816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853920" y="2751120"/>
            <a:ext cx="1785960" cy="51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por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Fr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5768640" y="3746520"/>
            <a:ext cx="105732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381720" y="3511440"/>
            <a:ext cx="1789200" cy="51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 por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5714640" y="2717640"/>
            <a:ext cx="105732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6327720" y="2271600"/>
            <a:ext cx="1787760" cy="8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ol Panel – Text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00040" y="2362320"/>
            <a:ext cx="826308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468520" y="1461960"/>
            <a:ext cx="4246560" cy="4475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Frame Options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ce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903320" y="1139760"/>
            <a:ext cx="536112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"/>
          <p:cNvSpPr/>
          <p:nvPr/>
        </p:nvSpPr>
        <p:spPr>
          <a:xfrm>
            <a:off x="3998880" y="1204920"/>
            <a:ext cx="155412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rizontal rul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798480" y="3456000"/>
            <a:ext cx="113976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tical rul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216160" y="1911240"/>
            <a:ext cx="5094360" cy="3560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 flipH="1">
            <a:off x="1986840" y="2103480"/>
            <a:ext cx="174600" cy="3108240"/>
          </a:xfrm>
          <a:custGeom>
            <a:avLst/>
            <a:gdLst>
              <a:gd name="textAreaLeft" fmla="*/ 0 w 174600"/>
              <a:gd name="textAreaRight" fmla="*/ 63000 w 174600"/>
              <a:gd name="textAreaTop" fmla="*/ 81000 h 3108240"/>
              <a:gd name="textAreaBottom" fmla="*/ 3027240 h 31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 flipH="1" rot="5400000">
            <a:off x="4475160" y="-552600"/>
            <a:ext cx="174600" cy="4572000"/>
          </a:xfrm>
          <a:custGeom>
            <a:avLst/>
            <a:gdLst>
              <a:gd name="textAreaLeft" fmla="*/ 0 w 174600"/>
              <a:gd name="textAreaRight" fmla="*/ 63000 w 17460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3"/>
                </a:lnTo>
                <a:cubicBezTo>
                  <a:pt x="10800" y="9863"/>
                  <a:pt x="16200" y="10763"/>
                  <a:pt x="21600" y="10763"/>
                </a:cubicBezTo>
                <a:cubicBezTo>
                  <a:pt x="16200" y="10763"/>
                  <a:pt x="10800" y="11663"/>
                  <a:pt x="10800" y="125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olygon Settings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30320" y="2262240"/>
            <a:ext cx="530856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ctangular Graphic F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62360" y="2327400"/>
            <a:ext cx="4444920" cy="213984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3295800" y="2657520"/>
            <a:ext cx="104760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92080" y="2224080"/>
            <a:ext cx="2395800" cy="84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894040" y="4276800"/>
            <a:ext cx="1047600" cy="32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46080" y="3843360"/>
            <a:ext cx="2395440" cy="84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1-31T00:46:50Z</dcterms:modified>
  <cp:revision>83</cp:revision>
  <dc:subject>Courseware Resource Supplement</dc:subject>
  <dc:title>OV-ILT Template –  Content Developer Section</dc:title>
</cp:coreProperties>
</file>