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24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7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8"/>
          <p:cNvSpPr/>
          <p:nvPr/>
        </p:nvSpPr>
        <p:spPr>
          <a:xfrm>
            <a:off x="0" y="0"/>
            <a:ext cx="7124760" cy="9410760"/>
          </a:xfrm>
          <a:custGeom>
            <a:avLst/>
            <a:gdLst>
              <a:gd name="textAreaLeft" fmla="*/ 360 w 7124760"/>
              <a:gd name="textAreaRight" fmla="*/ 7124400 w 7124760"/>
              <a:gd name="textAreaTop" fmla="*/ 360 h 9410760"/>
              <a:gd name="textAreaBottom" fmla="*/ 9410400 h 9410760"/>
            </a:gdLst>
            <a:ahLst/>
            <a:rect l="textAreaLeft" t="textAreaTop" r="textAreaRight" b="textAreaBottom"/>
            <a:pathLst>
              <a:path w="21600" h="28530">
                <a:moveTo>
                  <a:pt x="4" y="0"/>
                </a:moveTo>
                <a:arcTo wR="4" hR="4" stAng="16200000" swAng="-5400000"/>
                <a:lnTo>
                  <a:pt x="0" y="28526"/>
                </a:lnTo>
                <a:arcTo wR="4" hR="4" stAng="10800000" swAng="-5400000"/>
                <a:lnTo>
                  <a:pt x="21596" y="2853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19"/>
          <p:cNvSpPr/>
          <p:nvPr/>
        </p:nvSpPr>
        <p:spPr>
          <a:xfrm>
            <a:off x="0" y="0"/>
            <a:ext cx="30877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4035600" y="0"/>
            <a:ext cx="30873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209240" y="704520"/>
            <a:ext cx="4676760" cy="3500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712440" y="4470480"/>
            <a:ext cx="5670360" cy="4206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0" y="8937720"/>
            <a:ext cx="3087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1"/>
          </p:nvPr>
        </p:nvSpPr>
        <p:spPr>
          <a:xfrm>
            <a:off x="4035240" y="8937720"/>
            <a:ext cx="3058920" cy="442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74A58-FA34-4AA6-AC07-EEC5D96AA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4"/>
          <p:cNvSpPr/>
          <p:nvPr/>
        </p:nvSpPr>
        <p:spPr>
          <a:xfrm>
            <a:off x="4035600" y="8937720"/>
            <a:ext cx="3058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343CC-D136-4094-9EE9-00B0F4FEB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4035600" y="8937720"/>
            <a:ext cx="3060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BB7CA-8806-4964-9187-1ABB1F293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4"/>
          <p:cNvSpPr/>
          <p:nvPr/>
        </p:nvSpPr>
        <p:spPr>
          <a:xfrm>
            <a:off x="4035600" y="8937720"/>
            <a:ext cx="3058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9529B-A1F6-408E-ACBD-60A1BE6C7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4035600" y="8937720"/>
            <a:ext cx="3060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1E137-9755-4FD5-896E-6E99C877C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4"/>
          <p:cNvSpPr/>
          <p:nvPr/>
        </p:nvSpPr>
        <p:spPr>
          <a:xfrm>
            <a:off x="4035600" y="8937720"/>
            <a:ext cx="3058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32FBE0-38C4-444C-89A1-D8E54AA37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1"/>
          <p:cNvSpPr/>
          <p:nvPr/>
        </p:nvSpPr>
        <p:spPr>
          <a:xfrm>
            <a:off x="4035600" y="8937720"/>
            <a:ext cx="3060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614163-DE94-4FE3-A10B-421A0D498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4"/>
          <p:cNvSpPr/>
          <p:nvPr/>
        </p:nvSpPr>
        <p:spPr>
          <a:xfrm>
            <a:off x="4035600" y="8937720"/>
            <a:ext cx="3058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7D7E9A-F566-4284-A758-82030E571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"/>
          <p:cNvSpPr/>
          <p:nvPr/>
        </p:nvSpPr>
        <p:spPr>
          <a:xfrm>
            <a:off x="4035600" y="8937720"/>
            <a:ext cx="3060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885700-E474-4C44-9FF6-6360574D7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3760" cy="35272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12800" y="4470120"/>
            <a:ext cx="56973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4"/>
          <p:cNvSpPr/>
          <p:nvPr/>
        </p:nvSpPr>
        <p:spPr>
          <a:xfrm>
            <a:off x="4035600" y="8937720"/>
            <a:ext cx="3058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0C16BC-5AFC-43CB-A197-9071211B0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"/>
          <p:cNvSpPr/>
          <p:nvPr/>
        </p:nvSpPr>
        <p:spPr>
          <a:xfrm>
            <a:off x="4035600" y="8937720"/>
            <a:ext cx="3060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62A88-4766-4904-91B9-0B6A844C2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2320" cy="35258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2800" y="4470480"/>
            <a:ext cx="569592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4"/>
          <p:cNvSpPr/>
          <p:nvPr/>
        </p:nvSpPr>
        <p:spPr>
          <a:xfrm>
            <a:off x="4035600" y="8937720"/>
            <a:ext cx="3058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B85A4-7EAF-4B2F-AEC4-4A184BCE3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"/>
          <p:cNvSpPr/>
          <p:nvPr/>
        </p:nvSpPr>
        <p:spPr>
          <a:xfrm>
            <a:off x="4035600" y="8937720"/>
            <a:ext cx="3060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343841-E7F9-4DE6-A530-E3405FA56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2320" cy="3525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12800" y="4470480"/>
            <a:ext cx="569592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4"/>
          <p:cNvSpPr/>
          <p:nvPr/>
        </p:nvSpPr>
        <p:spPr>
          <a:xfrm>
            <a:off x="4035600" y="8937720"/>
            <a:ext cx="3058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5F6043-6BAE-4FE2-8FA8-36C5F2B45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"/>
          <p:cNvSpPr/>
          <p:nvPr/>
        </p:nvSpPr>
        <p:spPr>
          <a:xfrm>
            <a:off x="4035600" y="8937720"/>
            <a:ext cx="3060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AD1914-CA69-4D96-B31D-07A2AA666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2320" cy="3525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12800" y="4470480"/>
            <a:ext cx="569592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4"/>
          <p:cNvSpPr/>
          <p:nvPr/>
        </p:nvSpPr>
        <p:spPr>
          <a:xfrm>
            <a:off x="4035600" y="8937720"/>
            <a:ext cx="3058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7E8B29-9E20-400F-BA79-25B030DC7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"/>
          <p:cNvSpPr/>
          <p:nvPr/>
        </p:nvSpPr>
        <p:spPr>
          <a:xfrm>
            <a:off x="4035600" y="8937720"/>
            <a:ext cx="3060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9D9064-509D-48DE-963D-2F5DFE377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2320" cy="3525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2800" y="4470480"/>
            <a:ext cx="569592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4"/>
          <p:cNvSpPr/>
          <p:nvPr/>
        </p:nvSpPr>
        <p:spPr>
          <a:xfrm>
            <a:off x="4035600" y="8937720"/>
            <a:ext cx="3058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2416BB-ED3D-44D4-B53F-33C65390D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"/>
          <p:cNvSpPr/>
          <p:nvPr/>
        </p:nvSpPr>
        <p:spPr>
          <a:xfrm>
            <a:off x="4035600" y="8937720"/>
            <a:ext cx="3060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C3A82-33C9-450E-9515-29DEDD56D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2320" cy="3525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12800" y="4470480"/>
            <a:ext cx="569592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245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060200"/>
            <a:ext cx="820116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35080"/>
            <a:ext cx="820116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245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060200"/>
            <a:ext cx="40021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9480" y="1060200"/>
            <a:ext cx="40021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35080"/>
            <a:ext cx="40021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9480" y="3835080"/>
            <a:ext cx="40021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245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060200"/>
            <a:ext cx="26406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9920" y="1060200"/>
            <a:ext cx="26406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3000" y="1060200"/>
            <a:ext cx="26406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35080"/>
            <a:ext cx="26406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9920" y="3835080"/>
            <a:ext cx="26406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3000" y="3835080"/>
            <a:ext cx="26406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245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060200"/>
            <a:ext cx="8201160" cy="53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245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060200"/>
            <a:ext cx="820116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245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060200"/>
            <a:ext cx="400212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9480" y="1060200"/>
            <a:ext cx="400212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245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01600"/>
            <a:ext cx="682452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245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060200"/>
            <a:ext cx="40021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9480" y="1060200"/>
            <a:ext cx="400212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35080"/>
            <a:ext cx="40021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245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060200"/>
            <a:ext cx="400212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9480" y="1060200"/>
            <a:ext cx="40021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9480" y="3835080"/>
            <a:ext cx="40021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245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060200"/>
            <a:ext cx="40021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9480" y="1060200"/>
            <a:ext cx="40021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35080"/>
            <a:ext cx="820116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060200"/>
            <a:ext cx="820116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600"/>
            <a:ext cx="68245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8178840" y="6551640"/>
            <a:ext cx="965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 1 - </a:t>
            </a:r>
            <a:fld id="{EF317FE2-AA21-40A9-A873-0927B965DECE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2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457200" y="182520"/>
            <a:ext cx="682632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Getting Started With InDe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457200" y="1060560"/>
            <a:ext cx="8202600" cy="53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1080">
              <a:spcBef>
                <a:spcPts val="499"/>
              </a:spcBef>
              <a:buClr>
                <a:srgbClr val="0084d1"/>
              </a:buClr>
              <a:buFont typeface="Wingdings" charset="2"/>
              <a:buChar char=""/>
              <a:tabLst>
                <a:tab algn="l" pos="182520"/>
                <a:tab algn="l" pos="295200"/>
                <a:tab algn="l" pos="752400"/>
                <a:tab algn="l" pos="1209600"/>
                <a:tab algn="l" pos="1666800"/>
                <a:tab algn="l" pos="2124000"/>
                <a:tab algn="l" pos="2581200"/>
                <a:tab algn="l" pos="3038400"/>
                <a:tab algn="l" pos="3495600"/>
                <a:tab algn="l" pos="3952800"/>
                <a:tab algn="l" pos="4410000"/>
                <a:tab algn="l" pos="4867200"/>
                <a:tab algn="l" pos="5324400"/>
                <a:tab algn="l" pos="5781600"/>
                <a:tab algn="l" pos="6238800"/>
                <a:tab algn="l" pos="6696000"/>
                <a:tab algn="l" pos="7153200"/>
                <a:tab algn="l" pos="7610400"/>
                <a:tab algn="l" pos="8067600"/>
                <a:tab algn="l" pos="852480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fy Components of the InDesign 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1080">
              <a:spcBef>
                <a:spcPts val="499"/>
              </a:spcBef>
              <a:buClr>
                <a:srgbClr val="0084d1"/>
              </a:buClr>
              <a:buFont typeface="Wingdings" charset="2"/>
              <a:buChar char=""/>
              <a:tabLst>
                <a:tab algn="l" pos="182520"/>
                <a:tab algn="l" pos="295200"/>
                <a:tab algn="l" pos="752400"/>
                <a:tab algn="l" pos="1209600"/>
                <a:tab algn="l" pos="1666800"/>
                <a:tab algn="l" pos="2124000"/>
                <a:tab algn="l" pos="2581200"/>
                <a:tab algn="l" pos="3038400"/>
                <a:tab algn="l" pos="3495600"/>
                <a:tab algn="l" pos="3952800"/>
                <a:tab algn="l" pos="4410000"/>
                <a:tab algn="l" pos="4867200"/>
                <a:tab algn="l" pos="5324400"/>
                <a:tab algn="l" pos="5781600"/>
                <a:tab algn="l" pos="6238800"/>
                <a:tab algn="l" pos="6696000"/>
                <a:tab algn="l" pos="7153200"/>
                <a:tab algn="l" pos="7610400"/>
                <a:tab algn="l" pos="8067600"/>
                <a:tab algn="l" pos="852480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ize the InDesign 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1080">
              <a:spcBef>
                <a:spcPts val="499"/>
              </a:spcBef>
              <a:buClr>
                <a:srgbClr val="0084d1"/>
              </a:buClr>
              <a:buFont typeface="Wingdings" charset="2"/>
              <a:buChar char=""/>
              <a:tabLst>
                <a:tab algn="l" pos="182520"/>
                <a:tab algn="l" pos="295200"/>
                <a:tab algn="l" pos="752400"/>
                <a:tab algn="l" pos="1209600"/>
                <a:tab algn="l" pos="1666800"/>
                <a:tab algn="l" pos="2124000"/>
                <a:tab algn="l" pos="2581200"/>
                <a:tab algn="l" pos="3038400"/>
                <a:tab algn="l" pos="3495600"/>
                <a:tab algn="l" pos="3952800"/>
                <a:tab algn="l" pos="4410000"/>
                <a:tab algn="l" pos="4867200"/>
                <a:tab algn="l" pos="5324400"/>
                <a:tab algn="l" pos="5781600"/>
                <a:tab algn="l" pos="6238800"/>
                <a:tab algn="l" pos="6696000"/>
                <a:tab algn="l" pos="7153200"/>
                <a:tab algn="l" pos="7610400"/>
                <a:tab algn="l" pos="8067600"/>
                <a:tab algn="l" pos="852480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the Navigation Contro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1080">
              <a:spcBef>
                <a:spcPts val="499"/>
              </a:spcBef>
              <a:buClr>
                <a:srgbClr val="0084d1"/>
              </a:buClr>
              <a:buFont typeface="Wingdings" charset="2"/>
              <a:buChar char=""/>
              <a:tabLst>
                <a:tab algn="l" pos="182520"/>
                <a:tab algn="l" pos="295200"/>
                <a:tab algn="l" pos="752400"/>
                <a:tab algn="l" pos="1209600"/>
                <a:tab algn="l" pos="1666800"/>
                <a:tab algn="l" pos="2124000"/>
                <a:tab algn="l" pos="2581200"/>
                <a:tab algn="l" pos="3038400"/>
                <a:tab algn="l" pos="3495600"/>
                <a:tab algn="l" pos="3952800"/>
                <a:tab algn="l" pos="4410000"/>
                <a:tab algn="l" pos="4867200"/>
                <a:tab algn="l" pos="5324400"/>
                <a:tab algn="l" pos="5781600"/>
                <a:tab algn="l" pos="6238800"/>
                <a:tab algn="l" pos="6696000"/>
                <a:tab algn="l" pos="7153200"/>
                <a:tab algn="l" pos="7610400"/>
                <a:tab algn="l" pos="8067600"/>
                <a:tab algn="l" pos="852480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Preferen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Line 1"/>
          <p:cNvSpPr/>
          <p:nvPr/>
        </p:nvSpPr>
        <p:spPr>
          <a:xfrm>
            <a:off x="2090880" y="5518080"/>
            <a:ext cx="1440" cy="498600"/>
          </a:xfrm>
          <a:prstGeom prst="line">
            <a:avLst/>
          </a:prstGeom>
          <a:ln cap="sq"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Welcome Scr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1841400" y="1319040"/>
            <a:ext cx="5484960" cy="421812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4"/>
          <p:cNvSpPr/>
          <p:nvPr/>
        </p:nvSpPr>
        <p:spPr>
          <a:xfrm flipH="1">
            <a:off x="1613880" y="2378160"/>
            <a:ext cx="174600" cy="2103480"/>
          </a:xfrm>
          <a:custGeom>
            <a:avLst/>
            <a:gdLst>
              <a:gd name="textAreaLeft" fmla="*/ 0 w 174600"/>
              <a:gd name="textAreaRight" fmla="*/ 63000 w 174600"/>
              <a:gd name="textAreaTop" fmla="*/ 54720 h 2103480"/>
              <a:gd name="textAreaBottom" fmla="*/ 2048760 h 210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AutoShape 5"/>
          <p:cNvSpPr/>
          <p:nvPr/>
        </p:nvSpPr>
        <p:spPr>
          <a:xfrm>
            <a:off x="182520" y="3290760"/>
            <a:ext cx="1365120" cy="27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pen sectio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utoShape 6"/>
          <p:cNvSpPr/>
          <p:nvPr/>
        </p:nvSpPr>
        <p:spPr>
          <a:xfrm flipH="1">
            <a:off x="1613880" y="4486320"/>
            <a:ext cx="174600" cy="852480"/>
          </a:xfrm>
          <a:custGeom>
            <a:avLst/>
            <a:gdLst>
              <a:gd name="textAreaLeft" fmla="*/ 0 w 174600"/>
              <a:gd name="textAreaRight" fmla="*/ 63000 w 174600"/>
              <a:gd name="textAreaTop" fmla="*/ 21960 h 852480"/>
              <a:gd name="textAreaBottom" fmla="*/ 830520 h 8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7"/>
          <p:cNvSpPr/>
          <p:nvPr/>
        </p:nvSpPr>
        <p:spPr>
          <a:xfrm>
            <a:off x="182520" y="4726080"/>
            <a:ext cx="1365120" cy="387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sources sectio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8"/>
          <p:cNvSpPr/>
          <p:nvPr/>
        </p:nvSpPr>
        <p:spPr>
          <a:xfrm>
            <a:off x="7351560" y="2378160"/>
            <a:ext cx="174600" cy="912600"/>
          </a:xfrm>
          <a:custGeom>
            <a:avLst/>
            <a:gdLst>
              <a:gd name="textAreaLeft" fmla="*/ 0 w 174600"/>
              <a:gd name="textAreaRight" fmla="*/ 63000 w 174600"/>
              <a:gd name="textAreaTop" fmla="*/ 23760 h 912600"/>
              <a:gd name="textAreaBottom" fmla="*/ 888840 h 91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9"/>
          <p:cNvSpPr/>
          <p:nvPr/>
        </p:nvSpPr>
        <p:spPr>
          <a:xfrm>
            <a:off x="7532640" y="2641680"/>
            <a:ext cx="1365120" cy="404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reate New sectio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10"/>
          <p:cNvSpPr/>
          <p:nvPr/>
        </p:nvSpPr>
        <p:spPr>
          <a:xfrm>
            <a:off x="7340760" y="3475080"/>
            <a:ext cx="174600" cy="912600"/>
          </a:xfrm>
          <a:custGeom>
            <a:avLst/>
            <a:gdLst>
              <a:gd name="textAreaLeft" fmla="*/ 0 w 174600"/>
              <a:gd name="textAreaRight" fmla="*/ 63000 w 174600"/>
              <a:gd name="textAreaTop" fmla="*/ 23760 h 912600"/>
              <a:gd name="textAreaBottom" fmla="*/ 888840 h 91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11"/>
          <p:cNvSpPr/>
          <p:nvPr/>
        </p:nvSpPr>
        <p:spPr>
          <a:xfrm>
            <a:off x="7523280" y="3738600"/>
            <a:ext cx="1365120" cy="404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munity sectio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12"/>
          <p:cNvSpPr/>
          <p:nvPr/>
        </p:nvSpPr>
        <p:spPr>
          <a:xfrm>
            <a:off x="1427040" y="5835600"/>
            <a:ext cx="1365480" cy="387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on't show again butto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3260880" y="2143080"/>
            <a:ext cx="4468680" cy="3059280"/>
          </a:xfrm>
          <a:prstGeom prst="rect">
            <a:avLst/>
          </a:prstGeom>
          <a:ln w="0">
            <a:noFill/>
          </a:ln>
        </p:spPr>
      </p:pic>
      <p:sp>
        <p:nvSpPr>
          <p:cNvPr id="82" name="Line 2"/>
          <p:cNvSpPr/>
          <p:nvPr/>
        </p:nvSpPr>
        <p:spPr>
          <a:xfrm>
            <a:off x="7278840" y="1976400"/>
            <a:ext cx="1440" cy="94932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 flipH="1">
            <a:off x="3063240" y="2887560"/>
            <a:ext cx="174600" cy="2224080"/>
          </a:xfrm>
          <a:custGeom>
            <a:avLst/>
            <a:gdLst>
              <a:gd name="textAreaLeft" fmla="*/ 0 w 174600"/>
              <a:gd name="textAreaRight" fmla="*/ 63000 w 174600"/>
              <a:gd name="textAreaTop" fmla="*/ 57960 h 2224080"/>
              <a:gd name="textAreaBottom" fmla="*/ 2166120 h 22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4"/>
          <p:cNvSpPr/>
          <p:nvPr/>
        </p:nvSpPr>
        <p:spPr>
          <a:xfrm>
            <a:off x="2806560" y="2416320"/>
            <a:ext cx="498600" cy="144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1576440" y="2281320"/>
            <a:ext cx="1476360" cy="27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enu ba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6"/>
          <p:cNvSpPr/>
          <p:nvPr/>
        </p:nvSpPr>
        <p:spPr>
          <a:xfrm>
            <a:off x="2862360" y="1789200"/>
            <a:ext cx="433440" cy="43164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1603440" y="1698480"/>
            <a:ext cx="1476360" cy="27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lication ba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1595520" y="3849840"/>
            <a:ext cx="1365120" cy="274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ols pane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9"/>
          <p:cNvSpPr/>
          <p:nvPr/>
        </p:nvSpPr>
        <p:spPr>
          <a:xfrm flipV="1">
            <a:off x="2830680" y="2575080"/>
            <a:ext cx="479160" cy="53640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1600200" y="2870280"/>
            <a:ext cx="1476360" cy="27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trol pa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6807240" y="1701720"/>
            <a:ext cx="914400" cy="27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nel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12"/>
          <p:cNvSpPr/>
          <p:nvPr/>
        </p:nvSpPr>
        <p:spPr>
          <a:xfrm flipV="1">
            <a:off x="3170160" y="4974840"/>
            <a:ext cx="544680" cy="60156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2638440" y="5440320"/>
            <a:ext cx="1476360" cy="27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ocument window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InDesign Inte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4440240" y="1114560"/>
            <a:ext cx="314280" cy="53323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Tools Pa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3"/>
          <p:cNvSpPr/>
          <p:nvPr/>
        </p:nvSpPr>
        <p:spPr>
          <a:xfrm>
            <a:off x="2728800" y="1638360"/>
            <a:ext cx="13716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lection tool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4"/>
          <p:cNvSpPr/>
          <p:nvPr/>
        </p:nvSpPr>
        <p:spPr>
          <a:xfrm>
            <a:off x="2728800" y="3921120"/>
            <a:ext cx="13716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ansformation tool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5103720" y="2828880"/>
            <a:ext cx="13716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rawing and Type tool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5103720" y="4780080"/>
            <a:ext cx="13716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dification and Navigation tool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4846680" y="2468520"/>
            <a:ext cx="174600" cy="1189080"/>
          </a:xfrm>
          <a:custGeom>
            <a:avLst/>
            <a:gdLst>
              <a:gd name="textAreaLeft" fmla="*/ 0 w 174600"/>
              <a:gd name="textAreaRight" fmla="*/ 63000 w 174600"/>
              <a:gd name="textAreaTop" fmla="*/ 30960 h 1189080"/>
              <a:gd name="textAreaBottom" fmla="*/ 1158120 h 11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 flipH="1">
            <a:off x="4203000" y="1371600"/>
            <a:ext cx="174600" cy="1006560"/>
          </a:xfrm>
          <a:custGeom>
            <a:avLst/>
            <a:gdLst>
              <a:gd name="textAreaLeft" fmla="*/ 0 w 174600"/>
              <a:gd name="textAreaRight" fmla="*/ 63000 w 174600"/>
              <a:gd name="textAreaTop" fmla="*/ 25920 h 1006560"/>
              <a:gd name="textAreaBottom" fmla="*/ 980640 h 10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9"/>
          <p:cNvSpPr/>
          <p:nvPr/>
        </p:nvSpPr>
        <p:spPr>
          <a:xfrm flipH="1">
            <a:off x="4203000" y="3693960"/>
            <a:ext cx="174600" cy="878040"/>
          </a:xfrm>
          <a:custGeom>
            <a:avLst/>
            <a:gdLst>
              <a:gd name="textAreaLeft" fmla="*/ 0 w 174600"/>
              <a:gd name="textAreaRight" fmla="*/ 63000 w 174600"/>
              <a:gd name="textAreaTop" fmla="*/ 22680 h 878040"/>
              <a:gd name="textAreaBottom" fmla="*/ 855360 h 87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0"/>
          <p:cNvSpPr/>
          <p:nvPr/>
        </p:nvSpPr>
        <p:spPr>
          <a:xfrm>
            <a:off x="4836960" y="4583160"/>
            <a:ext cx="174600" cy="811080"/>
          </a:xfrm>
          <a:custGeom>
            <a:avLst/>
            <a:gdLst>
              <a:gd name="textAreaLeft" fmla="*/ 0 w 174600"/>
              <a:gd name="textAreaRight" fmla="*/ 63000 w 174600"/>
              <a:gd name="textAreaTop" fmla="*/ 20880 h 811080"/>
              <a:gd name="textAreaBottom" fmla="*/ 790200 h 81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Mini Bridge Pa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1479600" y="1704960"/>
            <a:ext cx="6208560" cy="344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Keyboard Shortcuts Dialog Bo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870120" y="1290600"/>
            <a:ext cx="742788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Navigation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Group 2"/>
          <p:cNvGrpSpPr/>
          <p:nvPr/>
        </p:nvGrpSpPr>
        <p:grpSpPr>
          <a:xfrm>
            <a:off x="1908000" y="1557360"/>
            <a:ext cx="5283360" cy="3656160"/>
            <a:chOff x="1908000" y="1557360"/>
            <a:chExt cx="5283360" cy="3656160"/>
          </a:xfrm>
        </p:grpSpPr>
        <p:pic>
          <p:nvPicPr>
            <p:cNvPr id="111" name="Picture 3" descr=""/>
            <p:cNvPicPr/>
            <p:nvPr/>
          </p:nvPicPr>
          <p:blipFill>
            <a:blip r:embed="rId1"/>
            <a:stretch/>
          </p:blipFill>
          <p:spPr>
            <a:xfrm>
              <a:off x="2860560" y="3311640"/>
              <a:ext cx="3533760" cy="3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Line 4"/>
            <p:cNvSpPr/>
            <p:nvPr/>
          </p:nvSpPr>
          <p:spPr>
            <a:xfrm>
              <a:off x="3363840" y="3660840"/>
              <a:ext cx="1800" cy="112536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AutoShape 5"/>
            <p:cNvSpPr/>
            <p:nvPr/>
          </p:nvSpPr>
          <p:spPr>
            <a:xfrm>
              <a:off x="1998720" y="4594320"/>
              <a:ext cx="2717640" cy="619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revious Pag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6"/>
            <p:cNvSpPr/>
            <p:nvPr/>
          </p:nvSpPr>
          <p:spPr>
            <a:xfrm flipV="1">
              <a:off x="3011400" y="2077560"/>
              <a:ext cx="1800" cy="125100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AutoShape 7"/>
            <p:cNvSpPr/>
            <p:nvPr/>
          </p:nvSpPr>
          <p:spPr>
            <a:xfrm>
              <a:off x="1908000" y="1557360"/>
              <a:ext cx="2347920" cy="619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irst Pag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Line 8"/>
            <p:cNvSpPr/>
            <p:nvPr/>
          </p:nvSpPr>
          <p:spPr>
            <a:xfrm flipV="1">
              <a:off x="5776920" y="2114280"/>
              <a:ext cx="3240" cy="125100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AutoShape 9"/>
            <p:cNvSpPr/>
            <p:nvPr/>
          </p:nvSpPr>
          <p:spPr>
            <a:xfrm>
              <a:off x="4675320" y="1557360"/>
              <a:ext cx="2347920" cy="619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ext Pag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Line 10"/>
            <p:cNvSpPr/>
            <p:nvPr/>
          </p:nvSpPr>
          <p:spPr>
            <a:xfrm>
              <a:off x="6083280" y="3660840"/>
              <a:ext cx="1440" cy="112536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AutoShape 11"/>
            <p:cNvSpPr/>
            <p:nvPr/>
          </p:nvSpPr>
          <p:spPr>
            <a:xfrm>
              <a:off x="4976640" y="4594320"/>
              <a:ext cx="2214720" cy="619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Last Pag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2227320" y="1141560"/>
            <a:ext cx="4713120" cy="52941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Zoom Op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2236680" y="6122880"/>
            <a:ext cx="324000" cy="324000"/>
          </a:xfrm>
          <a:prstGeom prst="roundRect">
            <a:avLst>
              <a:gd name="adj" fmla="val 486"/>
            </a:avLst>
          </a:prstGeom>
          <a:noFill/>
          <a:ln cap="sq" w="367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4809960" y="2282760"/>
            <a:ext cx="2086200" cy="1006560"/>
          </a:xfrm>
          <a:prstGeom prst="roundRect">
            <a:avLst>
              <a:gd name="adj" fmla="val 157"/>
            </a:avLst>
          </a:prstGeom>
          <a:noFill/>
          <a:ln cap="sq" w="367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3052800" y="1177920"/>
            <a:ext cx="639720" cy="230040"/>
          </a:xfrm>
          <a:prstGeom prst="roundRect">
            <a:avLst>
              <a:gd name="adj" fmla="val 694"/>
            </a:avLst>
          </a:prstGeom>
          <a:noFill/>
          <a:ln cap="sq" w="367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flective Ques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spcBef>
                <a:spcPts val="400"/>
              </a:spcBef>
              <a:spcAft>
                <a:spcPts val="1800"/>
              </a:spcAft>
              <a:buClr>
                <a:srgbClr val="009ddc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element of the interface do you feel will be most important in your work flow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Preferences setting do you see as being essential to your work flow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12:27:45Z</dcterms:created>
  <dc:creator>Isalgado</dc:creator>
  <dc:description>Version 1.6
03.31.03</dc:description>
  <dc:language>en-US</dc:language>
  <cp:lastModifiedBy>Tricia Murphy</cp:lastModifiedBy>
  <dcterms:modified xsi:type="dcterms:W3CDTF">2012-08-31T01:40:07Z</dcterms:modified>
  <cp:revision>81</cp:revision>
  <dc:subject>Courseware Resource Supplement</dc:subject>
  <dc:title>OV-ILT Template –  Content Developer Section</dc:title>
</cp:coreProperties>
</file>