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0" y="0"/>
            <a:ext cx="30877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209600" y="704520"/>
            <a:ext cx="4673520" cy="34974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67480" cy="4203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0" y="8937720"/>
            <a:ext cx="3087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1"/>
          </p:nvPr>
        </p:nvSpPr>
        <p:spPr>
          <a:xfrm>
            <a:off x="4035600" y="8937360"/>
            <a:ext cx="3055680" cy="439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2B608-BB7B-4FA9-9BD2-10CD9437B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6"/>
          <p:cNvSpPr/>
          <p:nvPr/>
        </p:nvSpPr>
        <p:spPr>
          <a:xfrm>
            <a:off x="4035600" y="8937720"/>
            <a:ext cx="30556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06209-D8C0-4CA1-B3E0-BC2272E87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49B9C-E0ED-44EE-A564-4CAFCDEDD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6"/>
          <p:cNvSpPr/>
          <p:nvPr/>
        </p:nvSpPr>
        <p:spPr>
          <a:xfrm>
            <a:off x="4035600" y="8937720"/>
            <a:ext cx="30556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39B43-5E15-4237-9AE9-FA6EB7816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7C45F-4CA1-493E-911A-BB9676B9E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6"/>
          <p:cNvSpPr/>
          <p:nvPr/>
        </p:nvSpPr>
        <p:spPr>
          <a:xfrm>
            <a:off x="4035600" y="8937720"/>
            <a:ext cx="30556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2F6AF-7657-4C8B-BD9C-8FFCF9F64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67AE1-3BC6-48F9-BBD1-A265DB37B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6"/>
          <p:cNvSpPr/>
          <p:nvPr/>
        </p:nvSpPr>
        <p:spPr>
          <a:xfrm>
            <a:off x="4035600" y="8937720"/>
            <a:ext cx="30556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02518-607A-4DFF-943D-2C228C4C2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75294-AA3B-4A18-92E3-E1C90A88B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6"/>
          <p:cNvSpPr/>
          <p:nvPr/>
        </p:nvSpPr>
        <p:spPr>
          <a:xfrm>
            <a:off x="4035600" y="8937720"/>
            <a:ext cx="30556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0B0FA-8031-4EB7-AF7C-C6D521BB8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EDDC7-25E2-4ADA-8151-6E0BE2C53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6"/>
          <p:cNvSpPr/>
          <p:nvPr/>
        </p:nvSpPr>
        <p:spPr>
          <a:xfrm>
            <a:off x="4035600" y="8937720"/>
            <a:ext cx="30556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DA224-1C36-4B5D-BE65-A69D05E9C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86ACE-FA97-4A4E-85AC-DBB76140E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216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1979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33280"/>
            <a:ext cx="81979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216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003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8040" y="1060560"/>
            <a:ext cx="40003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33280"/>
            <a:ext cx="40003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8040" y="3833280"/>
            <a:ext cx="40003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216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395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9200" y="1060560"/>
            <a:ext cx="26395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0840" y="1060560"/>
            <a:ext cx="26395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33280"/>
            <a:ext cx="26395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9200" y="3833280"/>
            <a:ext cx="26395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0840" y="3833280"/>
            <a:ext cx="26395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216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197920" cy="53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216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19792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216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0032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8040" y="1060560"/>
            <a:ext cx="400032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216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21640" cy="26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216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003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8040" y="1060560"/>
            <a:ext cx="400032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33280"/>
            <a:ext cx="40003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216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0032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8040" y="1060560"/>
            <a:ext cx="40003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8040" y="3833280"/>
            <a:ext cx="40003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216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003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8040" y="1060560"/>
            <a:ext cx="40003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33280"/>
            <a:ext cx="81979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19792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216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5 - </a:t>
            </a:r>
            <a:fld id="{0F233B8B-0452-401A-B31B-5484975191E7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457200" y="201600"/>
            <a:ext cx="682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Building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457200" y="1060560"/>
            <a:ext cx="8199360" cy="53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4320" indent="-182880">
              <a:spcBef>
                <a:spcPts val="499"/>
              </a:spcBef>
              <a:buClr>
                <a:srgbClr val="0084d1"/>
              </a:buClr>
              <a:buFont typeface="Wingdings" charset="2"/>
              <a:buChar char=""/>
              <a:tabLst>
                <a:tab algn="l" pos="184320"/>
                <a:tab algn="l" pos="297000"/>
                <a:tab algn="l" pos="754200"/>
                <a:tab algn="l" pos="1211400"/>
                <a:tab algn="l" pos="1668600"/>
                <a:tab algn="l" pos="2125800"/>
                <a:tab algn="l" pos="2583000"/>
                <a:tab algn="l" pos="3040200"/>
                <a:tab algn="l" pos="3497400"/>
                <a:tab algn="l" pos="3954600"/>
                <a:tab algn="l" pos="4411800"/>
                <a:tab algn="l" pos="4869000"/>
                <a:tab algn="l" pos="5326200"/>
                <a:tab algn="l" pos="5783400"/>
                <a:tab algn="l" pos="6240600"/>
                <a:tab algn="l" pos="6697800"/>
                <a:tab algn="l" pos="7155000"/>
                <a:tab algn="l" pos="7612200"/>
                <a:tab algn="l" pos="8069400"/>
                <a:tab algn="l" pos="852660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a New 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4320" indent="-182880">
              <a:spcBef>
                <a:spcPts val="499"/>
              </a:spcBef>
              <a:buClr>
                <a:srgbClr val="0084d1"/>
              </a:buClr>
              <a:buFont typeface="Wingdings" charset="2"/>
              <a:buChar char=""/>
              <a:tabLst>
                <a:tab algn="l" pos="184320"/>
                <a:tab algn="l" pos="297000"/>
                <a:tab algn="l" pos="754200"/>
                <a:tab algn="l" pos="1211400"/>
                <a:tab algn="l" pos="1668600"/>
                <a:tab algn="l" pos="2125800"/>
                <a:tab algn="l" pos="2583000"/>
                <a:tab algn="l" pos="3040200"/>
                <a:tab algn="l" pos="3497400"/>
                <a:tab algn="l" pos="3954600"/>
                <a:tab algn="l" pos="4411800"/>
                <a:tab algn="l" pos="4869000"/>
                <a:tab algn="l" pos="5326200"/>
                <a:tab algn="l" pos="5783400"/>
                <a:tab algn="l" pos="6240600"/>
                <a:tab algn="l" pos="6697800"/>
                <a:tab algn="l" pos="7155000"/>
                <a:tab algn="l" pos="7612200"/>
                <a:tab algn="l" pos="8069400"/>
                <a:tab algn="l" pos="852660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y a Table 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4320" indent="-182880">
              <a:spcBef>
                <a:spcPts val="499"/>
              </a:spcBef>
              <a:buClr>
                <a:srgbClr val="0084d1"/>
              </a:buClr>
              <a:buFont typeface="Wingdings" charset="2"/>
              <a:buChar char=""/>
              <a:tabLst>
                <a:tab algn="l" pos="184320"/>
                <a:tab algn="l" pos="297000"/>
                <a:tab algn="l" pos="754200"/>
                <a:tab algn="l" pos="1211400"/>
                <a:tab algn="l" pos="1668600"/>
                <a:tab algn="l" pos="2125800"/>
                <a:tab algn="l" pos="2583000"/>
                <a:tab algn="l" pos="3040200"/>
                <a:tab algn="l" pos="3497400"/>
                <a:tab algn="l" pos="3954600"/>
                <a:tab algn="l" pos="4411800"/>
                <a:tab algn="l" pos="4869000"/>
                <a:tab algn="l" pos="5326200"/>
                <a:tab algn="l" pos="5783400"/>
                <a:tab algn="l" pos="6240600"/>
                <a:tab algn="l" pos="6697800"/>
                <a:tab algn="l" pos="7155000"/>
                <a:tab algn="l" pos="7612200"/>
                <a:tab algn="l" pos="8069400"/>
                <a:tab algn="l" pos="852660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 a 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able Options Dialog 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638360" y="1349280"/>
            <a:ext cx="581796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able Pa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576440" y="147168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ell Options Dialog 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170080" y="1395360"/>
            <a:ext cx="48276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able Styles and Cell Styles Pa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197080" y="1600200"/>
            <a:ext cx="4773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400"/>
              </a:spcBef>
              <a:spcAft>
                <a:spcPts val="1800"/>
              </a:spcAft>
              <a:buClr>
                <a:srgbClr val="009ddc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s are an extremely useful layout tool. Can you come up with some other ways in which creating a table in  your document would solve a layout problem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modification options do you think will be best to use to improve your table layout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2-08-31T01:39:48Z</dcterms:modified>
  <cp:revision>81</cp:revision>
  <dc:subject>Courseware Resource Supplement</dc:subject>
  <dc:title>OV-ILT Template –  Content Developer Section</dc:title>
</cp:coreProperties>
</file>