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0" y="0"/>
            <a:ext cx="3087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672080" cy="3495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65680" cy="4201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0" y="8937720"/>
            <a:ext cx="308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4035600" y="8937360"/>
            <a:ext cx="3054240" cy="43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596CE-9294-4157-8FF3-FE1CFBA9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41B6-FBDB-4CC7-AC11-EE58181C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5437E-5C53-4D71-9D52-43FB5FAA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A1CE5-56A0-4DED-AF94-167CD90B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C888A-F81D-4966-AD49-F3CE833C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807A4-24BE-4F27-8EF5-B3559D5B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F26E-3584-4443-B08E-CADB2D53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F3DF-D175-4F36-AFF6-D08FB474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F9C23-1149-4048-A681-AA4B7540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D5FBC-E09C-47F6-B081-E851E080A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9BD7-871C-42A0-970C-3CF0DFC1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66427-FAA3-4F7B-8240-4CE4CA1C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DEDCB-A4A2-4426-A158-5A063460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C9A63-4D56-4F0E-A656-6C6E2BE6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5E43-FDBB-43B3-B90F-69B472FC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D83F-62AB-433E-92EA-7D057378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8BE93-AD78-4A9F-AEDB-8F559CDC4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58D17-E015-4694-83FD-FCC51770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D409E-2870-4873-80BD-2EF18E2A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51E23-CAB4-4E28-9DFD-B37BCB97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24880-241A-41BF-B189-E2762FF82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8D281-73A2-4019-B0C4-5366AEC5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A07F3-3D92-45C8-A1EF-76381E32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FAB47-5C53-4D82-86FD-1162BCD9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58A39-628B-41BC-9B47-A94872BC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32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696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812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904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812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904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198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696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9E66C7F8-0B18-4307-BE5A-41B2A7904BB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01600"/>
            <a:ext cx="68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orking with Page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060560"/>
            <a:ext cx="819936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ange and Align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Lay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 and Manipulate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Text Fra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it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Find/Change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174760" y="1320840"/>
            <a:ext cx="4819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tory Ed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149480" y="1460520"/>
            <a:ext cx="5810040" cy="41511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"/>
          <p:cNvSpPr/>
          <p:nvPr/>
        </p:nvSpPr>
        <p:spPr>
          <a:xfrm>
            <a:off x="7043760" y="3262320"/>
            <a:ext cx="1420920" cy="47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 insert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6588000" y="3546360"/>
            <a:ext cx="473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spcAft>
                <a:spcPts val="1800"/>
              </a:spcAft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ways that you might use the transformation and manipulation tools in a layou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ill using layers in a layout be helpfu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351080" y="1322280"/>
            <a:ext cx="646416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u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V="1">
            <a:off x="6762600" y="3109680"/>
            <a:ext cx="1800" cy="4856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6031080" y="3576600"/>
            <a:ext cx="7300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2814480" y="3838680"/>
            <a:ext cx="1800" cy="4284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2785680" y="4286160"/>
            <a:ext cx="111276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1857240" y="3260880"/>
            <a:ext cx="1878120" cy="60768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ual page guide for logo plac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818320" y="2533680"/>
            <a:ext cx="1773000" cy="608040"/>
          </a:xfrm>
          <a:prstGeom prst="roundRect">
            <a:avLst>
              <a:gd name="adj" fmla="val 1666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ge guide indicating right marg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085760" y="1517760"/>
            <a:ext cx="705024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r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lign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530440" y="1414440"/>
            <a:ext cx="4280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ayers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222720" y="2367000"/>
            <a:ext cx="2679480" cy="1963800"/>
          </a:xfrm>
          <a:prstGeom prst="rect">
            <a:avLst/>
          </a:prstGeom>
          <a:ln w="0">
            <a:noFill/>
          </a:ln>
        </p:spPr>
      </p:pic>
      <p:sp>
        <p:nvSpPr>
          <p:cNvPr id="86" name="Line 3"/>
          <p:cNvSpPr/>
          <p:nvPr/>
        </p:nvSpPr>
        <p:spPr>
          <a:xfrm>
            <a:off x="2593800" y="2995560"/>
            <a:ext cx="64296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006560" y="2725560"/>
            <a:ext cx="1904760" cy="58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oggles visibility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894040" y="3905280"/>
            <a:ext cx="754200" cy="144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 flipV="1">
            <a:off x="3648240" y="3552840"/>
            <a:ext cx="1440" cy="37152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073160" y="3611520"/>
            <a:ext cx="190512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oggles layer lock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5525640" y="3290760"/>
            <a:ext cx="74772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5729400" y="4464000"/>
            <a:ext cx="224136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elete selected layers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 flipV="1">
            <a:off x="5545080" y="3034800"/>
            <a:ext cx="1800" cy="27468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5351040" y="2701800"/>
            <a:ext cx="86508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5370480" y="2701800"/>
            <a:ext cx="1800" cy="23508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4759200" y="4824360"/>
            <a:ext cx="35424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V="1">
            <a:off x="5113440" y="4214880"/>
            <a:ext cx="3240" cy="62856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2774880" y="4464000"/>
            <a:ext cx="204480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reate new layer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5466960" y="4824360"/>
            <a:ext cx="28116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5489640" y="4214880"/>
            <a:ext cx="1440" cy="62856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6080040" y="2347920"/>
            <a:ext cx="224172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cates current drawing layer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080040" y="3022560"/>
            <a:ext cx="224172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cates selected items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ayers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22720" y="2367000"/>
            <a:ext cx="2679480" cy="1963800"/>
          </a:xfrm>
          <a:prstGeom prst="rect">
            <a:avLst/>
          </a:prstGeom>
          <a:ln w="0">
            <a:noFill/>
          </a:ln>
        </p:spPr>
      </p:pic>
      <p:sp>
        <p:nvSpPr>
          <p:cNvPr id="105" name="Line 3"/>
          <p:cNvSpPr/>
          <p:nvPr/>
        </p:nvSpPr>
        <p:spPr>
          <a:xfrm>
            <a:off x="2593800" y="2995560"/>
            <a:ext cx="64296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006560" y="2725560"/>
            <a:ext cx="1904760" cy="58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oggles visibility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2894040" y="3905280"/>
            <a:ext cx="754200" cy="144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3648240" y="3552840"/>
            <a:ext cx="1440" cy="37152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073160" y="3611520"/>
            <a:ext cx="190512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oggles layer lock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5525640" y="3290760"/>
            <a:ext cx="74772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5729400" y="4464000"/>
            <a:ext cx="224136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elete selected layers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545080" y="3034800"/>
            <a:ext cx="1800" cy="27468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5351040" y="2701800"/>
            <a:ext cx="86508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5370480" y="2701800"/>
            <a:ext cx="1800" cy="23508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4759200" y="4824360"/>
            <a:ext cx="35424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5113440" y="4214880"/>
            <a:ext cx="3240" cy="62856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2774880" y="4464000"/>
            <a:ext cx="204480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reate new layer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H="1">
            <a:off x="5466960" y="4824360"/>
            <a:ext cx="28116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489640" y="4214880"/>
            <a:ext cx="1440" cy="628560"/>
          </a:xfrm>
          <a:prstGeom prst="line">
            <a:avLst/>
          </a:prstGeom>
          <a:ln cap="sq" w="18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8"/>
          <p:cNvSpPr/>
          <p:nvPr/>
        </p:nvSpPr>
        <p:spPr>
          <a:xfrm>
            <a:off x="6080040" y="2347920"/>
            <a:ext cx="224172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cates current drawing layer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6080040" y="3022560"/>
            <a:ext cx="2241720" cy="58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cates selected items Ic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ansform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611360" y="1905120"/>
            <a:ext cx="6281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ive Corner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689120" y="2162160"/>
            <a:ext cx="3637080" cy="2533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>
            <a:off x="5861160" y="2338560"/>
            <a:ext cx="2227320" cy="69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ve Corner Effect enable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5195520" y="2752560"/>
            <a:ext cx="68580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Thread Nav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7186680" y="4516560"/>
            <a:ext cx="14526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t text indicator in the out por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6687720" y="4905360"/>
            <a:ext cx="5130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24080" y="1824120"/>
            <a:ext cx="5364000" cy="338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2-08-31T01:41:51Z</dcterms:modified>
  <cp:revision>82</cp:revision>
  <dc:subject>Courseware Resource Supplement</dc:subject>
  <dc:title>OV-ILT Template –  Content Developer Section</dc:title>
</cp:coreProperties>
</file>