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C93C36-F055-486C-B221-664BCFE5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078755-371D-44E6-8926-DD59DB49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ting Started with In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ing a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ing a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with Page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ing a Document for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2-08-31T01:01:58Z</dcterms:modified>
  <cp:revision>81</cp:revision>
  <dc:subject>Courseware Resource Supplement</dc:subject>
  <dc:title>OV-ILT Template –  Content Developer Section</dc:title>
</cp:coreProperties>
</file>