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28E248-E1B2-4280-9F5D-4941F073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B8C5D7-9DBB-4C21-BB79-3FF7BB70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B844BF-CA72-40F5-A5F5-A50EABE7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161754-F586-45CE-BE48-33FDC6E4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7882BE-400B-4106-9CBB-5D027552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1 - </a:t>
            </a:r>
            <a:fld id="{D26657A3-DB8D-46CD-92F8-9A8B58FC5AE5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etting Starte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14560"/>
            <a:ext cx="82026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 in to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Components of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Office 365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3" descr="fig1.png"/>
          <p:cNvPicPr/>
          <p:nvPr/>
        </p:nvPicPr>
        <p:blipFill>
          <a:blip r:embed="rId1"/>
          <a:stretch/>
        </p:blipFill>
        <p:spPr>
          <a:xfrm>
            <a:off x="957240" y="1182600"/>
            <a:ext cx="7229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ystem Requir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oft Windows 7 with Service Pack 1 (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XP with Service Pac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 OS X 10.5 (Leopard), 10.6 (Snow Leopard), or 10.7 (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Serv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brows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Explorer 8 or higher (IE 9.0 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 Safari 5 or hi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st version of Google Ch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st version of Mozilla Firef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Office su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10 Service Pack 1 (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07 Service Pac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11 for Mac and Outlook 2011 for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17" descr=""/>
          <p:cNvPicPr/>
          <p:nvPr/>
        </p:nvPicPr>
        <p:blipFill>
          <a:blip r:embed="rId1"/>
          <a:stretch/>
        </p:blipFill>
        <p:spPr>
          <a:xfrm>
            <a:off x="517680" y="1015920"/>
            <a:ext cx="834516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fice 365 Portal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Office 365 will make your job easi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 you see as the biggest benefit of Office 365 to your compa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21:15:22Z</dcterms:created>
  <dc:creator>Laurie Perry</dc:creator>
  <dc:description>Version 1.6
03.31.03</dc:description>
  <dc:language>en-US</dc:language>
  <cp:lastModifiedBy>Tricia Murphy</cp:lastModifiedBy>
  <dcterms:modified xsi:type="dcterms:W3CDTF">2013-06-26T20:41:25Z</dcterms:modified>
  <cp:revision>105</cp:revision>
  <dc:subject>Courseware Resource Supplement</dc:subject>
  <dc:title>Slide 1</dc:title>
</cp:coreProperties>
</file>