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B3164F-8F99-41C0-8BF1-CEEF50381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D72C5E-5796-4CD3-9AA2-679D8EE6A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19A39F-CFA4-4D02-ABEE-89F4C581A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B4006D84-DA5A-4F37-BAE2-8B2CBE8B48C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llaborating with Shared Fil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 the local desktop applications to Office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ange, add, and edit shared documents on the Team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e with others using shared documents on the Team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d Documents Lis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4" descr="Fig3.png"/>
          <p:cNvPicPr/>
          <p:nvPr/>
        </p:nvPicPr>
        <p:blipFill>
          <a:blip r:embed="rId1"/>
          <a:stretch/>
        </p:blipFill>
        <p:spPr>
          <a:xfrm>
            <a:off x="365040" y="1523880"/>
            <a:ext cx="84139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Word Web Ap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Content Placeholder 4" descr="word_webapp.png"/>
          <p:cNvPicPr/>
          <p:nvPr/>
        </p:nvPicPr>
        <p:blipFill>
          <a:blip r:embed="rId1"/>
          <a:stretch/>
        </p:blipFill>
        <p:spPr>
          <a:xfrm>
            <a:off x="950760" y="1212840"/>
            <a:ext cx="72424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Excel Web Ap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" name="xl_webapp.png" descr="C:\Current projects\Logical Operations\Office 365 Web Apps &amp; Collaboration\lo_091100\trunk\091100\images\xl_webapp.png"/>
          <p:cNvPicPr/>
          <p:nvPr/>
        </p:nvPicPr>
        <p:blipFill>
          <a:blip r:embed="rId1"/>
          <a:stretch/>
        </p:blipFill>
        <p:spPr>
          <a:xfrm>
            <a:off x="1190520" y="1098720"/>
            <a:ext cx="67629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owerPoint Web Ap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" name="Content Placeholder 4" descr="ppt_webapp.png"/>
          <p:cNvPicPr/>
          <p:nvPr/>
        </p:nvPicPr>
        <p:blipFill>
          <a:blip r:embed="rId1"/>
          <a:stretch/>
        </p:blipFill>
        <p:spPr>
          <a:xfrm>
            <a:off x="950760" y="1136520"/>
            <a:ext cx="724248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diting in the Word Web App vs. Word 2010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Picture 6" descr="fig4.png"/>
          <p:cNvPicPr/>
          <p:nvPr/>
        </p:nvPicPr>
        <p:blipFill>
          <a:blip r:embed="rId1"/>
          <a:srcRect l="0" t="0" r="0" b="4484"/>
          <a:stretch/>
        </p:blipFill>
        <p:spPr>
          <a:xfrm>
            <a:off x="990720" y="1600200"/>
            <a:ext cx="7313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finition of Co-author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-autho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defined as multiple users editing the same document at any t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imultaneous co-autho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defined as multiple users editing the same document at the same time. Only Excel Web App supports simultaneous co-autho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Office 365 document collaboration feature will increase the productivity of your tea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advantage of using the simultaneous co-authoring feat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20:00:11Z</dcterms:created>
  <dc:creator>Laurie Perry</dc:creator>
  <dc:description>Version 1.6
03.31.03</dc:description>
  <dc:language>en-US</dc:language>
  <cp:lastModifiedBy>Tricia Murphy</cp:lastModifiedBy>
  <dcterms:modified xsi:type="dcterms:W3CDTF">2013-06-26T20:44:26Z</dcterms:modified>
  <cp:revision>33</cp:revision>
  <dc:subject>Courseware Resource Supplement</dc:subject>
  <dc:title>Collaborating with Shared Files</dc:title>
</cp:coreProperties>
</file>