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EEA002-14B9-4C0F-8953-3F810324C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7AC3B2-BC9F-4B37-B797-7158EB54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3603B1-C331-49A4-B3AC-3255DB37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CECC74-2E6A-400C-9567-A275B4DE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6C2D14A3-E10E-48FF-834F-D856A7CAC46F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Using the Outlook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Outlook Web App to send and receive 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contacts and groups in the Outlook Web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and share your 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e your Outlook Web App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Mail 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725400" y="1542960"/>
            <a:ext cx="7716960" cy="4337280"/>
            <a:chOff x="725400" y="1542960"/>
            <a:chExt cx="7716960" cy="4337280"/>
          </a:xfrm>
        </p:grpSpPr>
        <p:pic>
          <p:nvPicPr>
            <p:cNvPr id="53" name="Picture 22" descr=""/>
            <p:cNvPicPr/>
            <p:nvPr/>
          </p:nvPicPr>
          <p:blipFill>
            <a:blip r:embed="rId1"/>
            <a:stretch/>
          </p:blipFill>
          <p:spPr>
            <a:xfrm>
              <a:off x="1920960" y="2156400"/>
              <a:ext cx="6521400" cy="34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08"/>
            <p:cNvSpPr/>
            <p:nvPr/>
          </p:nvSpPr>
          <p:spPr>
            <a:xfrm flipH="1">
              <a:off x="1797840" y="2971440"/>
              <a:ext cx="274680" cy="263088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53280 h 2630880"/>
                <a:gd name="textAreaBottom" fmla="*/ 2577600 h 26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99"/>
                    <a:pt x="10800" y="1398"/>
                  </a:cubicBezTo>
                  <a:lnTo>
                    <a:pt x="10800" y="9402"/>
                  </a:lnTo>
                  <a:cubicBezTo>
                    <a:pt x="10800" y="10101"/>
                    <a:pt x="16200" y="10800"/>
                    <a:pt x="21600" y="10800"/>
                  </a:cubicBezTo>
                  <a:cubicBezTo>
                    <a:pt x="16200" y="10800"/>
                    <a:pt x="10800" y="11499"/>
                    <a:pt x="10800" y="12198"/>
                  </a:cubicBezTo>
                  <a:lnTo>
                    <a:pt x="10800" y="20202"/>
                  </a:lnTo>
                  <a:cubicBezTo>
                    <a:pt x="10800" y="2090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ounded Rectangle 4"/>
            <p:cNvSpPr/>
            <p:nvPr/>
          </p:nvSpPr>
          <p:spPr>
            <a:xfrm>
              <a:off x="725400" y="4149720"/>
              <a:ext cx="107784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lder Li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19"/>
            <p:cNvSpPr/>
            <p:nvPr/>
          </p:nvSpPr>
          <p:spPr>
            <a:xfrm>
              <a:off x="3668760" y="4846680"/>
              <a:ext cx="1295280" cy="27432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ntent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08"/>
            <p:cNvSpPr/>
            <p:nvPr/>
          </p:nvSpPr>
          <p:spPr>
            <a:xfrm flipH="1" rot="16200000">
              <a:off x="4223160" y="3765600"/>
              <a:ext cx="182160" cy="1981080"/>
            </a:xfrm>
            <a:custGeom>
              <a:avLst/>
              <a:gdLst>
                <a:gd name="textAreaLeft" fmla="*/ 360 w 182160"/>
                <a:gd name="textAreaRight" fmla="*/ 66240 w 182160"/>
                <a:gd name="textAreaTop" fmla="*/ 35280 h 1981080"/>
                <a:gd name="textAreaBottom" fmla="*/ 19458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17"/>
                    <a:pt x="10800" y="1233"/>
                  </a:cubicBezTo>
                  <a:lnTo>
                    <a:pt x="10800" y="9567"/>
                  </a:lnTo>
                  <a:cubicBezTo>
                    <a:pt x="10800" y="10184"/>
                    <a:pt x="16200" y="10800"/>
                    <a:pt x="21600" y="10800"/>
                  </a:cubicBezTo>
                  <a:cubicBezTo>
                    <a:pt x="16200" y="10800"/>
                    <a:pt x="10800" y="11417"/>
                    <a:pt x="10800" y="12033"/>
                  </a:cubicBezTo>
                  <a:lnTo>
                    <a:pt x="10800" y="20367"/>
                  </a:lnTo>
                  <a:cubicBezTo>
                    <a:pt x="10800" y="2098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ounded Rectangle 9"/>
            <p:cNvSpPr/>
            <p:nvPr/>
          </p:nvSpPr>
          <p:spPr>
            <a:xfrm>
              <a:off x="6099120" y="1542960"/>
              <a:ext cx="15336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vigation Lin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ounded Rectangle 20"/>
            <p:cNvSpPr/>
            <p:nvPr/>
          </p:nvSpPr>
          <p:spPr>
            <a:xfrm>
              <a:off x="4316400" y="4065840"/>
              <a:ext cx="1296720" cy="27432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eading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08"/>
            <p:cNvSpPr/>
            <p:nvPr/>
          </p:nvSpPr>
          <p:spPr>
            <a:xfrm flipH="1">
              <a:off x="5612040" y="2527200"/>
              <a:ext cx="228600" cy="3353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4280 h 3353040"/>
                <a:gd name="textAreaBottom" fmla="*/ 3308760 h 335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7"/>
                    <a:pt x="10800" y="913"/>
                  </a:cubicBezTo>
                  <a:lnTo>
                    <a:pt x="10800" y="9887"/>
                  </a:lnTo>
                  <a:cubicBezTo>
                    <a:pt x="10800" y="10344"/>
                    <a:pt x="16200" y="10800"/>
                    <a:pt x="21600" y="10800"/>
                  </a:cubicBezTo>
                  <a:cubicBezTo>
                    <a:pt x="16200" y="10800"/>
                    <a:pt x="10800" y="11257"/>
                    <a:pt x="10800" y="11713"/>
                  </a:cubicBezTo>
                  <a:lnTo>
                    <a:pt x="10800" y="20687"/>
                  </a:lnTo>
                  <a:cubicBezTo>
                    <a:pt x="10800" y="2114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108"/>
          <p:cNvSpPr/>
          <p:nvPr/>
        </p:nvSpPr>
        <p:spPr>
          <a:xfrm flipH="1" rot="5400000">
            <a:off x="6774840" y="480240"/>
            <a:ext cx="182520" cy="2878200"/>
          </a:xfrm>
          <a:custGeom>
            <a:avLst/>
            <a:gdLst>
              <a:gd name="textAreaLeft" fmla="*/ 0 w 182520"/>
              <a:gd name="textAreaRight" fmla="*/ 65880 w 182520"/>
              <a:gd name="textAreaTop" fmla="*/ 35280 h 2878200"/>
              <a:gd name="textAreaBottom" fmla="*/ 2842920 h 287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5"/>
                  <a:pt x="10800" y="849"/>
                </a:cubicBezTo>
                <a:lnTo>
                  <a:pt x="10800" y="9951"/>
                </a:lnTo>
                <a:cubicBezTo>
                  <a:pt x="10800" y="10376"/>
                  <a:pt x="16200" y="10800"/>
                  <a:pt x="21600" y="10800"/>
                </a:cubicBezTo>
                <a:cubicBezTo>
                  <a:pt x="16200" y="10800"/>
                  <a:pt x="10800" y="11225"/>
                  <a:pt x="10800" y="11649"/>
                </a:cubicBezTo>
                <a:lnTo>
                  <a:pt x="10800" y="20751"/>
                </a:lnTo>
                <a:cubicBezTo>
                  <a:pt x="10800" y="211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Contac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058760" y="1523880"/>
            <a:ext cx="70264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Calenda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888840" y="1138320"/>
            <a:ext cx="73663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Mail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903240" y="1066680"/>
            <a:ext cx="74548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Finger Paints Them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021040" y="1371600"/>
            <a:ext cx="5322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the practical application of the Outlook Web App in your workpla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see any disadvantages to using the Outlook Web Ap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9:55:53Z</dcterms:created>
  <dc:creator>Laurie Perry</dc:creator>
  <dc:description>Version 1.6
03.31.03</dc:description>
  <dc:language>en-US</dc:language>
  <cp:lastModifiedBy>Tricia Murphy</cp:lastModifiedBy>
  <dcterms:modified xsi:type="dcterms:W3CDTF">2013-06-26T20:47:36Z</dcterms:modified>
  <cp:revision>40</cp:revision>
  <dc:subject>Courseware Resource Supplement</dc:subject>
  <dc:title>Using the Outlook Web App</dc:title>
</cp:coreProperties>
</file>