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55509F-5861-468B-A0B4-D1EF44865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79B44B-9445-4DDE-BFB2-60108F0D2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ing with Shared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ing the Outlook Web 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ng with Microsoft Ly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acting with Mobile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  <a:ea typeface="Calibri"/>
              </a:rPr>
              <a:t>Course Outlin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21:15:22Z</dcterms:created>
  <dc:creator>Laurie Perry</dc:creator>
  <dc:description>Version 1.6
03.31.03</dc:description>
  <dc:language>en-US</dc:language>
  <cp:lastModifiedBy>Tricia Murphy</cp:lastModifiedBy>
  <dcterms:modified xsi:type="dcterms:W3CDTF">2013-06-26T19:16:54Z</dcterms:modified>
  <cp:revision>12</cp:revision>
  <dc:subject>Courseware Resource Supplement</dc:subject>
  <dc:title>Slide 1</dc:title>
</cp:coreProperties>
</file>