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8C136F-4B0D-42C8-A4A7-F04E03373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B26A79-9E6B-4DFD-823C-CF94EE4F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0EFBF8-B248-41FC-910F-B713680D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5E3C30CB-D31B-47C4-8AA7-68897A16BDF6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teracting with Mobile De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up Office 365 to work with your mobil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shared documents from a mobil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otocol Setting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email_settings.png"/>
          <p:cNvPicPr/>
          <p:nvPr/>
        </p:nvPicPr>
        <p:blipFill>
          <a:blip r:embed="rId1"/>
          <a:stretch/>
        </p:blipFill>
        <p:spPr>
          <a:xfrm>
            <a:off x="2076480" y="1333440"/>
            <a:ext cx="4991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think of a time when you might access SharePoint documents using your mobile pho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mobile device will you use most often, and 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9:52:10Z</dcterms:created>
  <dc:creator>Laurie Perry</dc:creator>
  <dc:description>Version 1.6
03.31.03</dc:description>
  <dc:language>en-US</dc:language>
  <cp:lastModifiedBy>Tricia Murphy</cp:lastModifiedBy>
  <dcterms:modified xsi:type="dcterms:W3CDTF">2013-06-26T20:53:28Z</dcterms:modified>
  <cp:revision>16</cp:revision>
  <dc:subject>Courseware Resource Supplement</dc:subject>
  <dc:title>Interacting with Mobile Devices</dc:title>
</cp:coreProperties>
</file>