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124700" cy="9410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124400" cy="941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8772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4035600" y="0"/>
            <a:ext cx="308736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09240" y="704520"/>
            <a:ext cx="4705560" cy="352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937360"/>
            <a:ext cx="308772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035600" y="8937360"/>
            <a:ext cx="308736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E463F2C-F554-4B3C-8817-C0EC1AD47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5BCDA9A-6E22-4D0D-9D2D-34717EBFC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0E92B0E-B735-4F31-B462-247949A59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3652F3E-DEA1-43C1-AC33-EB9BA64B8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01240"/>
            <a:ext cx="6853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Rectangle 13"/>
          <p:cNvSpPr/>
          <p:nvPr/>
        </p:nvSpPr>
        <p:spPr>
          <a:xfrm>
            <a:off x="8178840" y="6551640"/>
            <a:ext cx="9651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1400" bIns="414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r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4c4c4"/>
                </a:solidFill>
                <a:latin typeface="Arial"/>
              </a:rPr>
              <a:t>OV 4 - </a:t>
            </a:r>
            <a:fld id="{5EA54071-5B04-4419-8BC6-739635BDB4B2}" type="slidenum">
              <a:rPr b="0" lang="en-US" sz="800" spc="-1" strike="noStrike">
                <a:solidFill>
                  <a:srgbClr val="c4c4c4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-1800" y="6551640"/>
            <a:ext cx="3718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Copyright © 2012 </a:t>
            </a:r>
            <a:r>
              <a:rPr b="1" lang="en-US" sz="1000" spc="-1" strike="noStrike">
                <a:solidFill>
                  <a:srgbClr val="d9d9d9"/>
                </a:solidFill>
                <a:latin typeface="Arial"/>
              </a:rPr>
              <a:t>Logical Operations, Inc</a:t>
            </a: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3" descr=""/>
          <p:cNvPicPr/>
          <p:nvPr/>
        </p:nvPicPr>
        <p:blipFill>
          <a:blip r:embed="rId2"/>
          <a:stretch/>
        </p:blipFill>
        <p:spPr>
          <a:xfrm>
            <a:off x="6019920" y="2666880"/>
            <a:ext cx="1676160" cy="5526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0" y="-7920"/>
            <a:ext cx="914400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ommunicating with Microsoft Lync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202600" cy="34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 instant messaging and manage your messaging contac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ke phone calls with Microsoft Lyn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hedule and participate in online meetings using Lyn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Signing In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2" name="Picture 4" descr="lync_signin.png"/>
          <p:cNvPicPr/>
          <p:nvPr/>
        </p:nvPicPr>
        <p:blipFill>
          <a:blip r:embed="rId1"/>
          <a:stretch/>
        </p:blipFill>
        <p:spPr>
          <a:xfrm>
            <a:off x="1905120" y="1828800"/>
            <a:ext cx="2035080" cy="3728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new_lync_window.png"/>
          <p:cNvPicPr/>
          <p:nvPr/>
        </p:nvPicPr>
        <p:blipFill>
          <a:blip r:embed="rId2"/>
          <a:stretch/>
        </p:blipFill>
        <p:spPr>
          <a:xfrm>
            <a:off x="4952880" y="1828800"/>
            <a:ext cx="2035440" cy="3728880"/>
          </a:xfrm>
          <a:prstGeom prst="rect">
            <a:avLst/>
          </a:prstGeom>
          <a:ln w="0">
            <a:noFill/>
          </a:ln>
        </p:spPr>
      </p:pic>
      <p:sp>
        <p:nvSpPr>
          <p:cNvPr id="54" name="TextBox 7"/>
          <p:cNvSpPr/>
          <p:nvPr/>
        </p:nvSpPr>
        <p:spPr>
          <a:xfrm>
            <a:off x="1828800" y="1230480"/>
            <a:ext cx="533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gn in to Lync to open the Microsoft Lync window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304"/>
          <p:cNvSpPr/>
          <p:nvPr/>
        </p:nvSpPr>
        <p:spPr>
          <a:xfrm>
            <a:off x="4114800" y="3387600"/>
            <a:ext cx="762120" cy="609840"/>
          </a:xfrm>
          <a:prstGeom prst="rightArrow">
            <a:avLst>
              <a:gd name="adj1" fmla="val 52602"/>
              <a:gd name="adj2" fmla="val 59557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Presence Indicator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838080" y="1219320"/>
          <a:ext cx="7696440" cy="4887720"/>
        </p:xfrm>
        <a:graphic>
          <a:graphicData uri="http://schemas.openxmlformats.org/drawingml/2006/table">
            <a:tbl>
              <a:tblPr/>
              <a:tblGrid>
                <a:gridCol w="1173240"/>
                <a:gridCol w="1758960"/>
                <a:gridCol w="4764240"/>
              </a:tblGrid>
              <a:tr h="390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a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9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ail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line and available to be contac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79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s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a call or meeting and doesn’t want to be interrup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6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 Not Distur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ly wants to receive conversation alerts from Workgroup contac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68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 Right B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mentarily away from the compu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68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ear Aw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er has been idle for 15 minut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88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 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working and unavail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68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l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signed 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68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kn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using Lyn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58" name="Picture 17" descr="unknown.png"/>
          <p:cNvPicPr/>
          <p:nvPr/>
        </p:nvPicPr>
        <p:blipFill>
          <a:blip r:embed="rId1"/>
          <a:stretch/>
        </p:blipFill>
        <p:spPr>
          <a:xfrm>
            <a:off x="1143000" y="5638680"/>
            <a:ext cx="343080" cy="333360"/>
          </a:xfrm>
          <a:prstGeom prst="rect">
            <a:avLst/>
          </a:prstGeom>
          <a:ln w="0">
            <a:noFill/>
          </a:ln>
        </p:spPr>
      </p:pic>
      <p:grpSp>
        <p:nvGrpSpPr>
          <p:cNvPr id="59" name="Group 22"/>
          <p:cNvGrpSpPr/>
          <p:nvPr/>
        </p:nvGrpSpPr>
        <p:grpSpPr>
          <a:xfrm>
            <a:off x="1171440" y="1676520"/>
            <a:ext cx="352440" cy="3600360"/>
            <a:chOff x="1171440" y="1676520"/>
            <a:chExt cx="352440" cy="3600360"/>
          </a:xfrm>
        </p:grpSpPr>
        <p:pic>
          <p:nvPicPr>
            <p:cNvPr id="60" name="Picture 13" descr="available.png"/>
            <p:cNvPicPr/>
            <p:nvPr/>
          </p:nvPicPr>
          <p:blipFill>
            <a:blip r:embed="rId2"/>
            <a:srcRect l="0" t="0" r="0" b="-3171"/>
            <a:stretch/>
          </p:blipFill>
          <p:spPr>
            <a:xfrm>
              <a:off x="1171440" y="1676520"/>
              <a:ext cx="35244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14" descr="busy.png"/>
            <p:cNvPicPr/>
            <p:nvPr/>
          </p:nvPicPr>
          <p:blipFill>
            <a:blip r:embed="rId3"/>
            <a:stretch/>
          </p:blipFill>
          <p:spPr>
            <a:xfrm>
              <a:off x="1180800" y="2133720"/>
              <a:ext cx="333720" cy="3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15" descr="b_right_back.png"/>
            <p:cNvPicPr/>
            <p:nvPr/>
          </p:nvPicPr>
          <p:blipFill>
            <a:blip r:embed="rId4"/>
            <a:stretch/>
          </p:blipFill>
          <p:spPr>
            <a:xfrm>
              <a:off x="1171440" y="3353040"/>
              <a:ext cx="35244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16" descr="dnd.png"/>
            <p:cNvPicPr/>
            <p:nvPr/>
          </p:nvPicPr>
          <p:blipFill>
            <a:blip r:embed="rId5"/>
            <a:stretch/>
          </p:blipFill>
          <p:spPr>
            <a:xfrm>
              <a:off x="1185480" y="2743200"/>
              <a:ext cx="32400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18" descr="offline.png"/>
            <p:cNvPicPr/>
            <p:nvPr/>
          </p:nvPicPr>
          <p:blipFill>
            <a:blip r:embed="rId6"/>
            <a:stretch/>
          </p:blipFill>
          <p:spPr>
            <a:xfrm>
              <a:off x="1185480" y="4953240"/>
              <a:ext cx="32400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20" descr="b_right_back.png"/>
            <p:cNvPicPr/>
            <p:nvPr/>
          </p:nvPicPr>
          <p:blipFill>
            <a:blip r:embed="rId7"/>
            <a:stretch/>
          </p:blipFill>
          <p:spPr>
            <a:xfrm>
              <a:off x="1171440" y="3886200"/>
              <a:ext cx="35244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21" descr="b_right_back.png"/>
            <p:cNvPicPr/>
            <p:nvPr/>
          </p:nvPicPr>
          <p:blipFill>
            <a:blip r:embed="rId8"/>
            <a:stretch/>
          </p:blipFill>
          <p:spPr>
            <a:xfrm>
              <a:off x="1171440" y="4419720"/>
              <a:ext cx="35244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Privacy Relationship Menu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8" name="Content Placeholder 3" descr="PrivacyRelationships.png"/>
          <p:cNvPicPr/>
          <p:nvPr/>
        </p:nvPicPr>
        <p:blipFill>
          <a:blip r:embed="rId1"/>
          <a:stretch/>
        </p:blipFill>
        <p:spPr>
          <a:xfrm>
            <a:off x="3305160" y="1792440"/>
            <a:ext cx="253368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Impromptu Meetings vs. Scheduled Meeting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romptu meeting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he Lync Contacts window, select Meet N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he Conversation window, invite others to join your meet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heduled meeting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Outlook 2010, select Online Meeting to create a meeting invitation for a specific date and tim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ect Send to email a link for others to join your meet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Using the Whiteboard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72" name="Picture 2" descr="SharingWhiteboard"/>
          <p:cNvPicPr/>
          <p:nvPr/>
        </p:nvPicPr>
        <p:blipFill>
          <a:blip r:embed="rId1"/>
          <a:stretch/>
        </p:blipFill>
        <p:spPr>
          <a:xfrm>
            <a:off x="1447920" y="2209680"/>
            <a:ext cx="5943600" cy="3295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fig13.png"/>
          <p:cNvPicPr/>
          <p:nvPr/>
        </p:nvPicPr>
        <p:blipFill>
          <a:blip r:embed="rId2"/>
          <a:stretch/>
        </p:blipFill>
        <p:spPr>
          <a:xfrm>
            <a:off x="219240" y="1336680"/>
            <a:ext cx="870552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eflective Question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1840" indent="-231840">
              <a:spcBef>
                <a:spcPts val="400"/>
              </a:spcBef>
              <a:buClr>
                <a:srgbClr val="009dd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ll the Lync IM feature be useful in your daily work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00"/>
              </a:spcBef>
              <a:buClr>
                <a:srgbClr val="009dd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00"/>
              </a:spcBef>
              <a:buClr>
                <a:srgbClr val="009dd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you find a practical application for using the whiteboard during meetings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9T19:53:04Z</dcterms:created>
  <dc:creator>Laurie Perry</dc:creator>
  <dc:description>Version 1.6
03.31.03</dc:description>
  <dc:language>en-US</dc:language>
  <cp:lastModifiedBy>Tricia Murphy</cp:lastModifiedBy>
  <dcterms:modified xsi:type="dcterms:W3CDTF">2013-06-26T20:52:46Z</dcterms:modified>
  <cp:revision>41</cp:revision>
  <dc:subject>Courseware Resource Supplement</dc:subject>
  <dc:title>Communicating with Microsoft Lync</dc:title>
</cp:coreProperties>
</file>