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1247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24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8772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35600" y="0"/>
            <a:ext cx="3087360" cy="471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9240" y="704520"/>
            <a:ext cx="47055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937360"/>
            <a:ext cx="308772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35600" y="8937360"/>
            <a:ext cx="3087360" cy="4712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E363B17-7670-40FD-B679-E849686F9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4035600" y="8937720"/>
            <a:ext cx="308736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60A1B40-2F0C-4744-8104-ADD38578D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209600" y="704880"/>
            <a:ext cx="4705560" cy="352908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12440" y="4470120"/>
            <a:ext cx="5699160" cy="42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056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9840"/>
            <a:ext cx="264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01240"/>
            <a:ext cx="6853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984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0560"/>
            <a:ext cx="40158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9840"/>
            <a:ext cx="8229600" cy="254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Rectangle 14"/>
          <p:cNvSpPr/>
          <p:nvPr/>
        </p:nvSpPr>
        <p:spPr>
          <a:xfrm>
            <a:off x="-1800" y="6551640"/>
            <a:ext cx="3718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Copyright © 2012 </a:t>
            </a:r>
            <a:r>
              <a:rPr b="1" lang="en-US" sz="1000" spc="-1" strike="noStrike">
                <a:solidFill>
                  <a:srgbClr val="d9d9d9"/>
                </a:solidFill>
                <a:latin typeface="Arial"/>
              </a:rPr>
              <a:t>Logical Operations, Inc</a:t>
            </a:r>
            <a:r>
              <a:rPr b="0" lang="en-US" sz="1000" spc="-1" strike="noStrike">
                <a:solidFill>
                  <a:srgbClr val="d9d9d9"/>
                </a:solidFill>
                <a:latin typeface="Arial"/>
              </a:rPr>
              <a:t>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3" descr=""/>
          <p:cNvPicPr/>
          <p:nvPr/>
        </p:nvPicPr>
        <p:blipFill>
          <a:blip r:embed="rId2"/>
          <a:stretch/>
        </p:blipFill>
        <p:spPr>
          <a:xfrm>
            <a:off x="6019920" y="2666880"/>
            <a:ext cx="1676160" cy="5526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3"/>
          <a:stretch/>
        </p:blipFill>
        <p:spPr>
          <a:xfrm>
            <a:off x="0" y="-7920"/>
            <a:ext cx="9144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06056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borating with Shared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ing the Outlook Web 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ng with Microsoft Lyn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00"/>
              </a:spcBef>
              <a:buClr>
                <a:srgbClr val="009dd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acting with Mobile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6840" y="201240"/>
            <a:ext cx="6853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alibri"/>
                <a:ea typeface="Calibri"/>
              </a:rPr>
              <a:t>Course Outline</a:t>
            </a:r>
            <a:endParaRPr b="0" i="1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21:15:22Z</dcterms:created>
  <dc:creator>Laurie Perry</dc:creator>
  <dc:description>Version 1.6
03.31.03</dc:description>
  <dc:language>en-US</dc:language>
  <cp:lastModifiedBy>Tricia Murphy</cp:lastModifiedBy>
  <dcterms:modified xsi:type="dcterms:W3CDTF">2013-06-26T19:16:54Z</dcterms:modified>
  <cp:revision>12</cp:revision>
  <dc:subject>Courseware Resource Supplement</dc:subject>
  <dc:title>Slide 1</dc:title>
</cp:coreProperties>
</file>