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8803F4F-EA92-458C-ABE2-30A8859D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D6F976-C92C-4E0D-A72D-8795169F3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6808C5A-71D1-4287-9DC4-2501819A7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CA3C363-2FC5-4677-B310-EA703E540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BE5067-C858-49E8-AB64-BA8F6C73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4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3"/>
          <p:cNvSpPr/>
          <p:nvPr/>
        </p:nvSpPr>
        <p:spPr>
          <a:xfrm>
            <a:off x="8178840" y="6551640"/>
            <a:ext cx="965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1400" bIns="414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r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4c4c4"/>
                </a:solidFill>
                <a:latin typeface="Arial"/>
              </a:rPr>
              <a:t>OV1 - </a:t>
            </a:r>
            <a:fld id="{36425810-A302-4D6C-979C-D6FAF9D2265E}" type="slidenum">
              <a:rPr b="0" lang="en-US" sz="800" spc="-1" strike="noStrike">
                <a:solidFill>
                  <a:srgbClr val="c4c4c4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Getting Started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14560"/>
            <a:ext cx="8202600" cy="34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 in to Office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y the Components of Office 3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Microsoft Office 365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2" name="Picture 3" descr="fig1.png"/>
          <p:cNvPicPr/>
          <p:nvPr/>
        </p:nvPicPr>
        <p:blipFill>
          <a:blip r:embed="rId1"/>
          <a:stretch/>
        </p:blipFill>
        <p:spPr>
          <a:xfrm>
            <a:off x="957240" y="1182600"/>
            <a:ext cx="72295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ystem Requirement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syst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soft Windows 7 with Service Pack 1 (recommen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s XP with Service Pack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 OS X 10.5 (Leopard), 10.6 (Snow Leopard), or 10.7 (L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s Server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brows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 Explorer 8 or higher (IE 9.0 recommen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e Safari 5 or hig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test version of Google Chr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test version of Mozilla Firef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crosoft Office sui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e 2010 Service Pack 1 (recommend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e 2007 Service Pac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e 2011 for Mac and Outlook 2011 for M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17" descr=""/>
          <p:cNvPicPr/>
          <p:nvPr/>
        </p:nvPicPr>
        <p:blipFill>
          <a:blip r:embed="rId1"/>
          <a:stretch/>
        </p:blipFill>
        <p:spPr>
          <a:xfrm>
            <a:off x="517680" y="1015920"/>
            <a:ext cx="8345160" cy="5143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Office 365 Portal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Reflective Questions</a:t>
            </a:r>
            <a:endParaRPr b="0" i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 you think Office 365 will make your job easie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buClr>
                <a:srgbClr val="009dd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 you see as the biggest benefit of Office 365 to your compan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21:15:22Z</dcterms:created>
  <dc:creator>Laurie Perry</dc:creator>
  <dc:description>Version 1.6
03.31.03</dc:description>
  <dc:language>en-US</dc:language>
  <cp:lastModifiedBy>Tricia Murphy</cp:lastModifiedBy>
  <dcterms:modified xsi:type="dcterms:W3CDTF">2013-06-26T20:41:25Z</dcterms:modified>
  <cp:revision>105</cp:revision>
  <dc:subject>Courseware Resource Supplement</dc:subject>
  <dc:title>Slide 1</dc:title>
</cp:coreProperties>
</file>