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AB5F474-17F6-4DD4-96C1-A561D843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FE8A3A-9610-4EBF-9106-AD889F33F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FB2F4F5-DD75-4EAC-900F-38CC937A8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5 - </a:t>
            </a:r>
            <a:fld id="{73F9EFCC-2B24-41C4-A650-5FF0CAB2F00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nteracting with Mobile Devic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up Office 365 to work with your mobil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 shared documents from a mobil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otocol Setting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2" descr="email_settings.png"/>
          <p:cNvPicPr/>
          <p:nvPr/>
        </p:nvPicPr>
        <p:blipFill>
          <a:blip r:embed="rId1"/>
          <a:stretch/>
        </p:blipFill>
        <p:spPr>
          <a:xfrm>
            <a:off x="2076480" y="1333440"/>
            <a:ext cx="49910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think of a time when you might access SharePoint documents using your mobile ph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mobile device will you use most often, and wh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9:52:10Z</dcterms:created>
  <dc:creator>Laurie Perry</dc:creator>
  <dc:description>Version 1.6
03.31.03</dc:description>
  <dc:language>en-US</dc:language>
  <cp:lastModifiedBy>Tricia Murphy</cp:lastModifiedBy>
  <dcterms:modified xsi:type="dcterms:W3CDTF">2013-06-26T20:53:28Z</dcterms:modified>
  <cp:revision>16</cp:revision>
  <dc:subject>Courseware Resource Supplement</dc:subject>
  <dc:title>Interacting with Mobile Devices</dc:title>
</cp:coreProperties>
</file>