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6646810-77A3-45E9-8B4C-6B711791C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F5557FF-CA9A-4074-8113-3FC038A26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3AB2028-B888-46A7-87FE-ABFD70E58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B4D3C29-DA9B-4499-8F4D-2E7FCA89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4 - </a:t>
            </a:r>
            <a:fld id="{A4E0772B-C0F7-4C32-A47F-81FB5D3E70C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mmunicating with Microsoft Lync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instant messaging and manage your messaging conta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ke phone calls with Microsoft L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 and participate in online meetings using Lyn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igning In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lync_signin.png"/>
          <p:cNvPicPr/>
          <p:nvPr/>
        </p:nvPicPr>
        <p:blipFill>
          <a:blip r:embed="rId1"/>
          <a:stretch/>
        </p:blipFill>
        <p:spPr>
          <a:xfrm>
            <a:off x="1905120" y="1828800"/>
            <a:ext cx="2035080" cy="3728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new_lync_window.png"/>
          <p:cNvPicPr/>
          <p:nvPr/>
        </p:nvPicPr>
        <p:blipFill>
          <a:blip r:embed="rId2"/>
          <a:stretch/>
        </p:blipFill>
        <p:spPr>
          <a:xfrm>
            <a:off x="4952880" y="1828800"/>
            <a:ext cx="2035440" cy="3728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1828800" y="1230480"/>
            <a:ext cx="53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gn in to Lync to open the Microsoft Lync windo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04"/>
          <p:cNvSpPr/>
          <p:nvPr/>
        </p:nvSpPr>
        <p:spPr>
          <a:xfrm>
            <a:off x="4114800" y="3387600"/>
            <a:ext cx="762120" cy="609840"/>
          </a:xfrm>
          <a:prstGeom prst="rightArrow">
            <a:avLst>
              <a:gd name="adj1" fmla="val 52602"/>
              <a:gd name="adj2" fmla="val 59557"/>
            </a:avLst>
          </a:prstGeom>
          <a:solidFill>
            <a:srgbClr val="009ddc"/>
          </a:solidFill>
          <a:ln w="0">
            <a:noFill/>
          </a:ln>
          <a:effectLst>
            <a:outerShdw dist="25455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esence Indicator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838080" y="1219320"/>
          <a:ext cx="7696440" cy="4887720"/>
        </p:xfrm>
        <a:graphic>
          <a:graphicData uri="http://schemas.openxmlformats.org/drawingml/2006/table">
            <a:tbl>
              <a:tblPr/>
              <a:tblGrid>
                <a:gridCol w="1173240"/>
                <a:gridCol w="1758960"/>
                <a:gridCol w="4764240"/>
              </a:tblGrid>
              <a:tr h="39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9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 and available to be contac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a call or meeting and doesn’t want to be interru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Not Distur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 wants to receive conversation alerts from Workgroup cont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8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 Right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mentarily away from the comp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ear A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 has been idle for 15 minut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 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working and un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8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igned 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8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using Lyn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8" name="Picture 17" descr="unknown.png"/>
          <p:cNvPicPr/>
          <p:nvPr/>
        </p:nvPicPr>
        <p:blipFill>
          <a:blip r:embed="rId1"/>
          <a:stretch/>
        </p:blipFill>
        <p:spPr>
          <a:xfrm>
            <a:off x="1143000" y="5638680"/>
            <a:ext cx="343080" cy="333360"/>
          </a:xfrm>
          <a:prstGeom prst="rect">
            <a:avLst/>
          </a:prstGeom>
          <a:ln w="0">
            <a:noFill/>
          </a:ln>
        </p:spPr>
      </p:pic>
      <p:grpSp>
        <p:nvGrpSpPr>
          <p:cNvPr id="59" name="Group 22"/>
          <p:cNvGrpSpPr/>
          <p:nvPr/>
        </p:nvGrpSpPr>
        <p:grpSpPr>
          <a:xfrm>
            <a:off x="1171440" y="1676520"/>
            <a:ext cx="352440" cy="3600360"/>
            <a:chOff x="1171440" y="1676520"/>
            <a:chExt cx="352440" cy="3600360"/>
          </a:xfrm>
        </p:grpSpPr>
        <p:pic>
          <p:nvPicPr>
            <p:cNvPr id="60" name="Picture 13" descr="available.png"/>
            <p:cNvPicPr/>
            <p:nvPr/>
          </p:nvPicPr>
          <p:blipFill>
            <a:blip r:embed="rId2"/>
            <a:srcRect l="0" t="0" r="0" b="-3171"/>
            <a:stretch/>
          </p:blipFill>
          <p:spPr>
            <a:xfrm>
              <a:off x="1171440" y="1676520"/>
              <a:ext cx="35244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4" descr="busy.png"/>
            <p:cNvPicPr/>
            <p:nvPr/>
          </p:nvPicPr>
          <p:blipFill>
            <a:blip r:embed="rId3"/>
            <a:stretch/>
          </p:blipFill>
          <p:spPr>
            <a:xfrm>
              <a:off x="1180800" y="2133720"/>
              <a:ext cx="333720" cy="31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5" descr="b_right_back.png"/>
            <p:cNvPicPr/>
            <p:nvPr/>
          </p:nvPicPr>
          <p:blipFill>
            <a:blip r:embed="rId4"/>
            <a:stretch/>
          </p:blipFill>
          <p:spPr>
            <a:xfrm>
              <a:off x="1171440" y="3353040"/>
              <a:ext cx="3524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6" descr="dnd.png"/>
            <p:cNvPicPr/>
            <p:nvPr/>
          </p:nvPicPr>
          <p:blipFill>
            <a:blip r:embed="rId5"/>
            <a:stretch/>
          </p:blipFill>
          <p:spPr>
            <a:xfrm>
              <a:off x="1185480" y="2743200"/>
              <a:ext cx="32400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8" descr="offline.png"/>
            <p:cNvPicPr/>
            <p:nvPr/>
          </p:nvPicPr>
          <p:blipFill>
            <a:blip r:embed="rId6"/>
            <a:stretch/>
          </p:blipFill>
          <p:spPr>
            <a:xfrm>
              <a:off x="1185480" y="4953240"/>
              <a:ext cx="32400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b_right_back.png"/>
            <p:cNvPicPr/>
            <p:nvPr/>
          </p:nvPicPr>
          <p:blipFill>
            <a:blip r:embed="rId7"/>
            <a:stretch/>
          </p:blipFill>
          <p:spPr>
            <a:xfrm>
              <a:off x="1171440" y="3886200"/>
              <a:ext cx="35244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b_right_back.png"/>
            <p:cNvPicPr/>
            <p:nvPr/>
          </p:nvPicPr>
          <p:blipFill>
            <a:blip r:embed="rId8"/>
            <a:stretch/>
          </p:blipFill>
          <p:spPr>
            <a:xfrm>
              <a:off x="1171440" y="4419720"/>
              <a:ext cx="35244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rivacy Relationship Menu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8" name="Content Placeholder 3" descr="PrivacyRelationships.png"/>
          <p:cNvPicPr/>
          <p:nvPr/>
        </p:nvPicPr>
        <p:blipFill>
          <a:blip r:embed="rId1"/>
          <a:stretch/>
        </p:blipFill>
        <p:spPr>
          <a:xfrm>
            <a:off x="3305160" y="1792440"/>
            <a:ext cx="253368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Impromptu Meetings vs. Scheduled Meeting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mptu meeting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Lync Contacts window, select Meet N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Conversation window, invite others to join you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eduled meetin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Outlook 2010, select Online Meeting to create a meeting invitation for a specific date and 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 Send to email a link for others to join your me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ing the Whiteboar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2" name="Picture 2" descr="SharingWhiteboard"/>
          <p:cNvPicPr/>
          <p:nvPr/>
        </p:nvPicPr>
        <p:blipFill>
          <a:blip r:embed="rId1"/>
          <a:stretch/>
        </p:blipFill>
        <p:spPr>
          <a:xfrm>
            <a:off x="1447920" y="2209680"/>
            <a:ext cx="5943600" cy="329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ig13.png"/>
          <p:cNvPicPr/>
          <p:nvPr/>
        </p:nvPicPr>
        <p:blipFill>
          <a:blip r:embed="rId2"/>
          <a:stretch/>
        </p:blipFill>
        <p:spPr>
          <a:xfrm>
            <a:off x="219240" y="1336680"/>
            <a:ext cx="870552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ll the Lync IM feature be useful in your daily wor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find a practical application for using the whiteboard during meeting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3:04Z</dcterms:created>
  <dc:creator>Laurie Perry</dc:creator>
  <dc:description>Version 1.6
03.31.03</dc:description>
  <dc:language>en-US</dc:language>
  <cp:lastModifiedBy>Tricia Murphy</cp:lastModifiedBy>
  <dcterms:modified xsi:type="dcterms:W3CDTF">2013-06-26T20:52:46Z</dcterms:modified>
  <cp:revision>41</cp:revision>
  <dc:subject>Courseware Resource Supplement</dc:subject>
  <dc:title>Communicating with Microsoft Lync</dc:title>
</cp:coreProperties>
</file>