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044C232-DAF6-483B-963D-4C97FBF4E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73058AD-ECD5-4A04-829A-9339C38FC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B21AD49-9E90-4353-94D9-BFC59B499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 2 - </a:t>
            </a:r>
            <a:fld id="{BC4C0A3E-D918-46A9-A68D-D6D14546215D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2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llaborating with Shared File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202600" cy="34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nect the local desktop applications to Office 3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range, add, and edit shared documents on the Team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laborate with others using shared documents on the Team 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hared Documents List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" name="Picture 4" descr="Fig3.png"/>
          <p:cNvPicPr/>
          <p:nvPr/>
        </p:nvPicPr>
        <p:blipFill>
          <a:blip r:embed="rId1"/>
          <a:stretch/>
        </p:blipFill>
        <p:spPr>
          <a:xfrm>
            <a:off x="365040" y="1523880"/>
            <a:ext cx="841392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Word Web App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4" name="Content Placeholder 4" descr="word_webapp.png"/>
          <p:cNvPicPr/>
          <p:nvPr/>
        </p:nvPicPr>
        <p:blipFill>
          <a:blip r:embed="rId1"/>
          <a:stretch/>
        </p:blipFill>
        <p:spPr>
          <a:xfrm>
            <a:off x="950760" y="1212840"/>
            <a:ext cx="724248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Excel Web App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6" name="xl_webapp.png" descr="C:\Current projects\Logical Operations\Office 365 Web Apps &amp; Collaboration\lo_091100\trunk\091100\images\xl_webapp.png"/>
          <p:cNvPicPr/>
          <p:nvPr/>
        </p:nvPicPr>
        <p:blipFill>
          <a:blip r:embed="rId1"/>
          <a:stretch/>
        </p:blipFill>
        <p:spPr>
          <a:xfrm>
            <a:off x="1190520" y="1098720"/>
            <a:ext cx="676296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he PowerPoint Web App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8" name="Content Placeholder 4" descr="ppt_webapp.png"/>
          <p:cNvPicPr/>
          <p:nvPr/>
        </p:nvPicPr>
        <p:blipFill>
          <a:blip r:embed="rId1"/>
          <a:stretch/>
        </p:blipFill>
        <p:spPr>
          <a:xfrm>
            <a:off x="950760" y="1136520"/>
            <a:ext cx="7242480" cy="53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diting in the Word Web App vs. Word 2010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0" name="Picture 6" descr="fig4.png"/>
          <p:cNvPicPr/>
          <p:nvPr/>
        </p:nvPicPr>
        <p:blipFill>
          <a:blip r:embed="rId1"/>
          <a:srcRect l="0" t="0" r="0" b="4484"/>
          <a:stretch/>
        </p:blipFill>
        <p:spPr>
          <a:xfrm>
            <a:off x="990720" y="1600200"/>
            <a:ext cx="7313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Definition of Co-authoring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-author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defined as multiple users editing the same document at any tim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imultaneous co-author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defined as multiple users editing the same document at the same time. Only Excel Web App supports simultaneous co-author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ich Office 365 document collaboration feature will increase the productivity of your tea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s the advantage of using the simultaneous co-authoring featu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9T20:00:11Z</dcterms:created>
  <dc:creator>Laurie Perry</dc:creator>
  <dc:description>Version 1.6
03.31.03</dc:description>
  <dc:language>en-US</dc:language>
  <cp:lastModifiedBy>Tricia Murphy</cp:lastModifiedBy>
  <dcterms:modified xsi:type="dcterms:W3CDTF">2013-06-26T20:44:26Z</dcterms:modified>
  <cp:revision>33</cp:revision>
  <dc:subject>Courseware Resource Supplement</dc:subject>
  <dc:title>Collaborating with Shared Files</dc:title>
</cp:coreProperties>
</file>