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B16041A-8077-4395-BE8F-E3802B6F3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0375ADA-E2BF-4A0C-BDA6-C2A71164B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B66EAA8-5363-4DF3-B116-2C9FCCFB35B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0EFDF7A4-C87F-4B2E-9821-1B075D9DC1B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1DDA8030-604C-416D-A5A2-E23D3576C3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9F8A062-BC29-42A9-B157-59ED0B299E3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D9FFA39-4F27-4939-A0F4-3D9793C441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FC22AAE0-E951-4BF7-B5CB-E8293EEA55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4AAAC7F-7F06-481D-AD3F-13B72EBB48C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F91B365-5623-4CE1-84CF-95481D262F1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D1A4EB9-1EBA-45FF-B0BF-EEB8796602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379956A-6024-4ED8-A4A5-35A172EA8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C69A1AE-36D8-4098-862D-F052CC66933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80E2F46-18FC-43C1-B532-F487891A1A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14A7C03-D79F-4E3D-864E-57212DD1BC7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7DBBC2A8-66BC-4697-8742-06349D02502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76A38BB7-8F4A-4ECE-976D-069FDEA95F1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BBF7671-AEC8-4DB3-A54B-F9567C728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8CD27B9-D5A7-4E0A-9167-068963E61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7EF9EFC-1EF0-4F55-A9F9-B3F9B377C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FA809D8-F5F0-426A-80F3-6BCAE37E2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D021EB1-FB64-4C87-8E43-5BA4D2395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F5388C3-C004-4F24-9DBA-F89D822FE4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16F0E01-EC8B-403A-A5E8-41BAFF8D3B3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3D62-6EC9-4903-88C2-A29E5E5417C4}"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5D51-E34B-40F2-B14D-80BA2AF48AF0}"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AD70-6A82-4E99-958A-03305EF56A6A}"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F933-7BA9-4372-B156-99DAC38ADD9C}"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75A0-83C4-48E5-9C41-7C1CF04433F0}"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 name="Picture 1" descr=""/>
          <p:cNvPicPr/>
          <p:nvPr/>
        </p:nvPicPr>
        <p:blipFill>
          <a:blip r:embed="rId1"/>
          <a:srcRect l="2740" t="6357" r="0" b="0"/>
          <a:stretch/>
        </p:blipFill>
        <p:spPr>
          <a:xfrm>
            <a:off x="0" y="2587680"/>
            <a:ext cx="7556400" cy="4849920"/>
          </a:xfrm>
          <a:prstGeom prst="rect">
            <a:avLst/>
          </a:prstGeom>
          <a:ln w="0">
            <a:noFill/>
          </a:ln>
        </p:spPr>
      </p:pic>
      <p:pic>
        <p:nvPicPr>
          <p:cNvPr id="124" name="Picture 1" descr=""/>
          <p:cNvPicPr/>
          <p:nvPr/>
        </p:nvPicPr>
        <p:blipFill>
          <a:blip r:embed="rId2"/>
          <a:stretch/>
        </p:blipFill>
        <p:spPr>
          <a:xfrm>
            <a:off x="0" y="3179880"/>
            <a:ext cx="7556400" cy="7556400"/>
          </a:xfrm>
          <a:prstGeom prst="rect">
            <a:avLst/>
          </a:prstGeom>
          <a:ln w="0">
            <a:noFill/>
          </a:ln>
        </p:spPr>
      </p:pic>
      <p:sp>
        <p:nvSpPr>
          <p:cNvPr id="125" name="object 17"/>
          <p:cNvSpPr/>
          <p:nvPr/>
        </p:nvSpPr>
        <p:spPr>
          <a:xfrm>
            <a:off x="577800" y="1625760"/>
            <a:ext cx="377496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fbfbf"/>
                </a:solidFill>
                <a:latin typeface="Fira Sans OT"/>
              </a:rPr>
              <a:t>Eria nimoditatia voluptatas aut la nimint molore velenda</a:t>
            </a:r>
            <a:r>
              <a:rPr b="1" lang="en-US" sz="1600" spc="-1" strike="noStrike">
                <a:solidFill>
                  <a:srgbClr val="bfbfbf"/>
                </a:solidFill>
                <a:latin typeface="Fira Sans OT"/>
              </a:rPr>
              <a:t>. debissitio</a:t>
            </a:r>
            <a:endParaRPr b="0" lang="en-US" sz="1600" spc="-1" strike="noStrike">
              <a:solidFill>
                <a:srgbClr val="000000"/>
              </a:solidFill>
              <a:latin typeface="Arial"/>
            </a:endParaRPr>
          </a:p>
        </p:txBody>
      </p:sp>
      <p:sp>
        <p:nvSpPr>
          <p:cNvPr id="126" name="object 13"/>
          <p:cNvSpPr/>
          <p:nvPr/>
        </p:nvSpPr>
        <p:spPr>
          <a:xfrm>
            <a:off x="44280" y="453960"/>
            <a:ext cx="7162920" cy="3140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League Gothic"/>
                <a:ea typeface="League Gothic"/>
              </a:rPr>
              <a:t>The Ebook Title</a:t>
            </a:r>
            <a:endParaRPr b="0" lang="en-US" sz="7200" spc="-1" strike="noStrike">
              <a:solidFill>
                <a:srgbClr val="000000"/>
              </a:solidFill>
              <a:latin typeface="Arial"/>
            </a:endParaRPr>
          </a:p>
        </p:txBody>
      </p:sp>
      <p:sp>
        <p:nvSpPr>
          <p:cNvPr id="127" name="object 8"/>
          <p:cNvSpPr/>
          <p:nvPr/>
        </p:nvSpPr>
        <p:spPr>
          <a:xfrm>
            <a:off x="1692360" y="9750600"/>
            <a:ext cx="5321160" cy="1533240"/>
          </a:xfrm>
          <a:prstGeom prst="rect">
            <a:avLst/>
          </a:prstGeom>
          <a:noFill/>
          <a:ln w="0">
            <a:noFill/>
          </a:ln>
        </p:spPr>
        <p:style>
          <a:lnRef idx="0"/>
          <a:fillRef idx="0"/>
          <a:effectRef idx="0"/>
          <a:fontRef idx="minor"/>
        </p:style>
        <p:txBody>
          <a:bodyPr lIns="0" rIns="0" tIns="0" bIns="0" anchor="t">
            <a:noAutofit/>
          </a:bodyPr>
          <a:p>
            <a:pPr marL="126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rPr>
              <a:t>Qui volore imagnihillit que la nimolora vellorendemporaecab imperit harum que dolor mint faccabori inveles et fugitibus dioris maiones.</a:t>
            </a:r>
            <a:endParaRPr b="0" lang="en-US" sz="1200" spc="-1" strike="noStrike">
              <a:solidFill>
                <a:srgbClr val="000000"/>
              </a:solidFill>
              <a:latin typeface="Arial"/>
            </a:endParaRPr>
          </a:p>
        </p:txBody>
      </p:sp>
      <p:sp>
        <p:nvSpPr>
          <p:cNvPr id="128" name="object 22"/>
          <p:cNvSpPr/>
          <p:nvPr/>
        </p:nvSpPr>
        <p:spPr>
          <a:xfrm>
            <a:off x="6012000" y="11034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3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3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FD81-99C4-4C47-8707-5FE32BA0753E}"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8"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3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47" name="Picture 3" descr=""/>
          <p:cNvPicPr/>
          <p:nvPr/>
        </p:nvPicPr>
        <p:blipFill>
          <a:blip r:embed="rId1"/>
          <a:stretch/>
        </p:blipFill>
        <p:spPr>
          <a:xfrm>
            <a:off x="1414440" y="605160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49"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0"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1"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7"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8"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59"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0"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2" name="Picture 16" descr=""/>
          <p:cNvPicPr/>
          <p:nvPr/>
        </p:nvPicPr>
        <p:blipFill>
          <a:blip r:embed="rId1"/>
          <a:stretch/>
        </p:blipFill>
        <p:spPr>
          <a:xfrm>
            <a:off x="861840" y="5045040"/>
            <a:ext cx="3592800" cy="23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Rectangle 2"/>
          <p:cNvSpPr/>
          <p:nvPr/>
        </p:nvSpPr>
        <p:spPr>
          <a:xfrm flipH="1" flipV="1">
            <a:off x="576720" y="4927680"/>
            <a:ext cx="2438280" cy="43941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7"/>
          <p:cNvSpPr/>
          <p:nvPr/>
        </p:nvSpPr>
        <p:spPr>
          <a:xfrm>
            <a:off x="3325680" y="5295960"/>
            <a:ext cx="377532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69" name="object 18"/>
          <p:cNvSpPr/>
          <p:nvPr/>
        </p:nvSpPr>
        <p:spPr>
          <a:xfrm>
            <a:off x="3325680" y="592776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0"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1" name="Picture 6" descr=""/>
          <p:cNvPicPr/>
          <p:nvPr/>
        </p:nvPicPr>
        <p:blipFill>
          <a:blip r:embed="rId1"/>
          <a:stretch/>
        </p:blipFill>
        <p:spPr>
          <a:xfrm>
            <a:off x="0" y="-8892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3"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4"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5"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76"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7"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A518-3A55-4DDA-8A21-45259190C236}"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9"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80" name="Picture 12" descr=""/>
          <p:cNvPicPr/>
          <p:nvPr/>
        </p:nvPicPr>
        <p:blipFill>
          <a:blip r:embed="rId1"/>
          <a:stretch/>
        </p:blipFill>
        <p:spPr>
          <a:xfrm>
            <a:off x="846000" y="6116760"/>
            <a:ext cx="3659400" cy="2439720"/>
          </a:xfrm>
          <a:prstGeom prst="rect">
            <a:avLst/>
          </a:prstGeom>
          <a:ln w="0">
            <a:noFill/>
          </a:ln>
        </p:spPr>
      </p:pic>
      <p:pic>
        <p:nvPicPr>
          <p:cNvPr id="181" name="Picture 13" descr=""/>
          <p:cNvPicPr/>
          <p:nvPr/>
        </p:nvPicPr>
        <p:blipFill>
          <a:blip r:embed="rId2"/>
          <a:stretch/>
        </p:blipFill>
        <p:spPr>
          <a:xfrm>
            <a:off x="4846680" y="1701720"/>
            <a:ext cx="2244600" cy="1497240"/>
          </a:xfrm>
          <a:prstGeom prst="rect">
            <a:avLst/>
          </a:prstGeom>
          <a:ln w="0">
            <a:noFill/>
          </a:ln>
        </p:spPr>
      </p:pic>
      <p:pic>
        <p:nvPicPr>
          <p:cNvPr id="182" name="Picture 14" descr=""/>
          <p:cNvPicPr/>
          <p:nvPr/>
        </p:nvPicPr>
        <p:blipFill>
          <a:blip r:embed="rId3"/>
          <a:stretch/>
        </p:blipFill>
        <p:spPr>
          <a:xfrm>
            <a:off x="4846680" y="5651640"/>
            <a:ext cx="2330280" cy="15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4"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5"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86"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7"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8"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9" name="Picture 2" descr="mini-laptop"/>
          <p:cNvPicPr/>
          <p:nvPr/>
        </p:nvPicPr>
        <p:blipFill>
          <a:blip r:embed="rId1"/>
          <a:stretch/>
        </p:blipFill>
        <p:spPr>
          <a:xfrm>
            <a:off x="1123920" y="1182600"/>
            <a:ext cx="3257640" cy="21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1"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3"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4"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5"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0" y="0"/>
            <a:ext cx="7556400" cy="93092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8"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9"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5:3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