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BB8DA72-B3B5-4263-ADA4-5069B0014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6AE05A3-9820-490C-89A1-C49B222E8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CF86C5E-C71D-43E2-8887-790F6DEA65F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3F5EE2B-7F08-4FB5-8E6E-0839422CC3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2A31BC31-7942-4B5F-BFEF-217F38FDD1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F88192F-3BB1-4BE4-8EA8-56C70AB954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C7CFFC6-75C0-4CA0-BFE0-C8874B93A3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58DA8193-0D63-4820-BDB8-4DA66A9883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D739105-E6D9-42AC-8D3D-1A3E3C13AE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FF15F52-78A8-4432-A04F-9B8ADF8792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7AAD8A9-84D3-4709-BB12-2B12868064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627A62D-C446-4776-B0B2-D0EED9075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674D867-1FA2-436B-AC89-9CF1DC4544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7A50A93-E198-4B5B-B0F5-7CE3099655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1DAB782-10DA-4F84-8473-F8D83143A2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E7CF3156-0662-4194-8554-913FD7D405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CE91F8F-02BA-471C-8B57-EC83D9CE22C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C9A4F66-2F5C-443A-8AFE-793E40A96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A3CF397-22D2-42B5-BAF3-81915AA0E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EBFB2EB-D795-44D8-8A9D-9B6D7B931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DF64524-C5AC-489C-B06D-5F33FD555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A43B8AE-7C88-44D6-80C3-15884D988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F35D247-B0FA-4EF0-89E7-E3A7EFEC5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FF83850-5EDB-4FBD-8B9E-49D450BCF7F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EED4-8047-49E7-B6BD-A7B1647C4BAE}"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971C-D27D-4DA6-B6B8-997A0B5F028D}"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E52D-BDA3-483F-939C-0BDA46B32307}"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7182-4B17-48ED-8197-DDC3FFB9F859}"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A94C-937F-4ADC-B6D0-3EFF91084620}"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 name="Picture 1" descr=""/>
          <p:cNvPicPr/>
          <p:nvPr/>
        </p:nvPicPr>
        <p:blipFill>
          <a:blip r:embed="rId1"/>
          <a:srcRect l="2740" t="6357" r="0" b="0"/>
          <a:stretch/>
        </p:blipFill>
        <p:spPr>
          <a:xfrm>
            <a:off x="0" y="2587680"/>
            <a:ext cx="7556400" cy="4849920"/>
          </a:xfrm>
          <a:prstGeom prst="rect">
            <a:avLst/>
          </a:prstGeom>
          <a:ln w="0">
            <a:noFill/>
          </a:ln>
        </p:spPr>
      </p:pic>
      <p:pic>
        <p:nvPicPr>
          <p:cNvPr id="124" name="Picture 1" descr=""/>
          <p:cNvPicPr/>
          <p:nvPr/>
        </p:nvPicPr>
        <p:blipFill>
          <a:blip r:embed="rId2"/>
          <a:stretch/>
        </p:blipFill>
        <p:spPr>
          <a:xfrm>
            <a:off x="0" y="3179880"/>
            <a:ext cx="7556400" cy="7556400"/>
          </a:xfrm>
          <a:prstGeom prst="rect">
            <a:avLst/>
          </a:prstGeom>
          <a:ln w="0">
            <a:noFill/>
          </a:ln>
        </p:spPr>
      </p:pic>
      <p:sp>
        <p:nvSpPr>
          <p:cNvPr id="125" name="object 17"/>
          <p:cNvSpPr/>
          <p:nvPr/>
        </p:nvSpPr>
        <p:spPr>
          <a:xfrm>
            <a:off x="577800" y="1625760"/>
            <a:ext cx="377496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Fira Sans OT"/>
              </a:rPr>
              <a:t>Eria nimoditatia voluptatas aut la nimint molore velenda</a:t>
            </a:r>
            <a:r>
              <a:rPr b="1" lang="en-US" sz="1600" spc="-1" strike="noStrike">
                <a:solidFill>
                  <a:srgbClr val="bfbfbf"/>
                </a:solidFill>
                <a:latin typeface="Fira Sans OT"/>
              </a:rPr>
              <a:t>. debissitio</a:t>
            </a:r>
            <a:endParaRPr b="0" lang="en-US" sz="1600" spc="-1" strike="noStrike">
              <a:solidFill>
                <a:srgbClr val="000000"/>
              </a:solidFill>
              <a:latin typeface="Arial"/>
            </a:endParaRPr>
          </a:p>
        </p:txBody>
      </p:sp>
      <p:sp>
        <p:nvSpPr>
          <p:cNvPr id="126" name="object 13"/>
          <p:cNvSpPr/>
          <p:nvPr/>
        </p:nvSpPr>
        <p:spPr>
          <a:xfrm>
            <a:off x="44280" y="453960"/>
            <a:ext cx="7162920" cy="3140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League Gothic"/>
                <a:ea typeface="League Gothic"/>
              </a:rPr>
              <a:t>The Ebook Title</a:t>
            </a:r>
            <a:endParaRPr b="0" lang="en-US" sz="7200" spc="-1" strike="noStrike">
              <a:solidFill>
                <a:srgbClr val="000000"/>
              </a:solidFill>
              <a:latin typeface="Arial"/>
            </a:endParaRPr>
          </a:p>
        </p:txBody>
      </p:sp>
      <p:sp>
        <p:nvSpPr>
          <p:cNvPr id="127" name="object 8"/>
          <p:cNvSpPr/>
          <p:nvPr/>
        </p:nvSpPr>
        <p:spPr>
          <a:xfrm>
            <a:off x="1692360" y="9750600"/>
            <a:ext cx="5321160" cy="153324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28" name="object 22"/>
          <p:cNvSpPr/>
          <p:nvPr/>
        </p:nvSpPr>
        <p:spPr>
          <a:xfrm>
            <a:off x="6012000" y="11034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3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3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6EC5-ACC2-4F4E-8B59-330105B3D94E}"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8"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3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47" name="Picture 3" descr=""/>
          <p:cNvPicPr/>
          <p:nvPr/>
        </p:nvPicPr>
        <p:blipFill>
          <a:blip r:embed="rId1"/>
          <a:stretch/>
        </p:blipFill>
        <p:spPr>
          <a:xfrm>
            <a:off x="1414440" y="605160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49"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0"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1"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7"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8"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59"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0"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2" name="Picture 16" descr=""/>
          <p:cNvPicPr/>
          <p:nvPr/>
        </p:nvPicPr>
        <p:blipFill>
          <a:blip r:embed="rId1"/>
          <a:stretch/>
        </p:blipFill>
        <p:spPr>
          <a:xfrm>
            <a:off x="861840" y="5045040"/>
            <a:ext cx="3592800" cy="23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Rectangle 2"/>
          <p:cNvSpPr/>
          <p:nvPr/>
        </p:nvSpPr>
        <p:spPr>
          <a:xfrm flipH="1" flipV="1">
            <a:off x="576720" y="4927680"/>
            <a:ext cx="2438280" cy="4394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7"/>
          <p:cNvSpPr/>
          <p:nvPr/>
        </p:nvSpPr>
        <p:spPr>
          <a:xfrm>
            <a:off x="3325680" y="5295960"/>
            <a:ext cx="377532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69" name="object 18"/>
          <p:cNvSpPr/>
          <p:nvPr/>
        </p:nvSpPr>
        <p:spPr>
          <a:xfrm>
            <a:off x="3325680" y="592776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0"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1" name="Picture 6" descr=""/>
          <p:cNvPicPr/>
          <p:nvPr/>
        </p:nvPicPr>
        <p:blipFill>
          <a:blip r:embed="rId1"/>
          <a:stretch/>
        </p:blipFill>
        <p:spPr>
          <a:xfrm>
            <a:off x="0" y="-8892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3"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4"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5"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76"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7"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E368-0F56-4698-AD3C-FD46370E8090}"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9"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80" name="Picture 12" descr=""/>
          <p:cNvPicPr/>
          <p:nvPr/>
        </p:nvPicPr>
        <p:blipFill>
          <a:blip r:embed="rId1"/>
          <a:stretch/>
        </p:blipFill>
        <p:spPr>
          <a:xfrm>
            <a:off x="846000" y="6116760"/>
            <a:ext cx="3659400" cy="2439720"/>
          </a:xfrm>
          <a:prstGeom prst="rect">
            <a:avLst/>
          </a:prstGeom>
          <a:ln w="0">
            <a:noFill/>
          </a:ln>
        </p:spPr>
      </p:pic>
      <p:pic>
        <p:nvPicPr>
          <p:cNvPr id="181" name="Picture 13" descr=""/>
          <p:cNvPicPr/>
          <p:nvPr/>
        </p:nvPicPr>
        <p:blipFill>
          <a:blip r:embed="rId2"/>
          <a:stretch/>
        </p:blipFill>
        <p:spPr>
          <a:xfrm>
            <a:off x="4846680" y="1701720"/>
            <a:ext cx="2244600" cy="1497240"/>
          </a:xfrm>
          <a:prstGeom prst="rect">
            <a:avLst/>
          </a:prstGeom>
          <a:ln w="0">
            <a:noFill/>
          </a:ln>
        </p:spPr>
      </p:pic>
      <p:pic>
        <p:nvPicPr>
          <p:cNvPr id="182" name="Picture 14" descr=""/>
          <p:cNvPicPr/>
          <p:nvPr/>
        </p:nvPicPr>
        <p:blipFill>
          <a:blip r:embed="rId3"/>
          <a:stretch/>
        </p:blipFill>
        <p:spPr>
          <a:xfrm>
            <a:off x="4846680" y="5651640"/>
            <a:ext cx="2330280" cy="15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4"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5"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86"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7"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8"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9" name="Picture 2" descr="mini-laptop"/>
          <p:cNvPicPr/>
          <p:nvPr/>
        </p:nvPicPr>
        <p:blipFill>
          <a:blip r:embed="rId1"/>
          <a:stretch/>
        </p:blipFill>
        <p:spPr>
          <a:xfrm>
            <a:off x="1123920" y="1182600"/>
            <a:ext cx="3257640" cy="21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1"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3"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4"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5"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0"/>
            <a:ext cx="7556400" cy="9309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8"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9"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5:3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