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CDE0D805-DDA2-49C4-8DF5-EDD7205D4C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7493022E-119C-4AE7-A841-9C4A0CD267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E0875AFF-AA03-4834-91C8-E3D5A7B364E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E28CEB2B-FE6D-49EC-949F-832716F2204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5CC62AED-088E-4853-9564-86650519AB8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F33B9A42-BB85-413C-9761-E21376F6297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62DECAA0-7CCE-4B99-A87F-F34E31E0523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BB229EDE-89A9-4A70-9206-507214F2902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D608AF64-9593-4BC7-B1E5-AE8A6BDFAE9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731BBE81-DCCE-4297-923C-EC6A4C87DF4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682E47C1-28C0-4836-B197-73115A4F308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55EAC61-03DE-4F8C-9651-412AC44382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DF1ABFCD-0FCE-4914-A512-913E451589C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A257612E-2141-4FF6-B823-4E7E647DB4C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6C8D894B-CCC9-43C2-8072-9EDA28C0E49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128B1247-B233-452C-854B-9F815BD269B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2BF95FA4-2689-46D0-97F1-94A183BB9DE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9"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1"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3"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24D9F05-B9DC-4D24-9D70-214C582494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8"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6"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0"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8"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4A2346F-4852-4625-83A9-548CDC8517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210F9B7-6E86-42F7-AD8D-B0FF10A697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615FA09-7393-4524-9F6B-82240BDD46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85EFFBA-6F18-48A1-8C87-ED5F850883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87847D5-DE0C-4BF5-9849-A3BACA40C4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A82FBD0-7591-4407-B293-704CC9E7043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3D28-27D4-479F-913D-8115B20E99F8}" type="datetime">
              <a:rPr b="0" lang="en-US" sz="1800" spc="-1" strike="noStrike">
                <a:solidFill>
                  <a:srgbClr val="898989"/>
                </a:solidFill>
                <a:latin typeface="Calibri"/>
              </a:rPr>
              <a:t>07/28/26</a:t>
            </a:fld>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9DA98-79EE-4171-9047-597F6D2264AB}"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2086-31C5-4913-8A1C-F06BA8CEE981}" type="datetime">
              <a:rPr b="0" lang="en-US" sz="1800" spc="-1" strike="noStrike">
                <a:solidFill>
                  <a:srgbClr val="898989"/>
                </a:solidFill>
                <a:latin typeface="Calibri"/>
              </a:rPr>
              <a:t>07/28/26</a:t>
            </a:fld>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0F33-D351-43FF-BC31-2E18D4B4BDD5}"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6292800" y="983124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5CDBE-4128-4705-B136-10ECF6DEDAFB}" type="slidenum">
              <a:rPr b="1" lang="en-US" sz="1400" spc="-1" strike="noStrike">
                <a:solidFill>
                  <a:srgbClr val="254061"/>
                </a:solidFill>
                <a:latin typeface="Arial"/>
              </a:rPr>
              <a:t>&lt;number&gt;</a:t>
            </a:fld>
            <a:endParaRPr b="0" lang="en-US" sz="1400" spc="-1" strike="noStrike">
              <a:solidFill>
                <a:srgbClr val="000000"/>
              </a:solidFill>
              <a:latin typeface="Arial"/>
            </a:endParaRPr>
          </a:p>
        </p:txBody>
      </p:sp>
      <p:pic>
        <p:nvPicPr>
          <p:cNvPr id="84" name="Picture 7" descr=""/>
          <p:cNvPicPr/>
          <p:nvPr/>
        </p:nvPicPr>
        <p:blipFill>
          <a:blip r:embed="rId2"/>
          <a:srcRect l="0" t="834" r="29440" b="72687"/>
          <a:stretch/>
        </p:blipFill>
        <p:spPr>
          <a:xfrm>
            <a:off x="11160" y="0"/>
            <a:ext cx="7545240" cy="2832120"/>
          </a:xfrm>
          <a:prstGeom prst="rect">
            <a:avLst/>
          </a:prstGeom>
          <a:ln w="0">
            <a:noFill/>
          </a:ln>
        </p:spPr>
      </p:pic>
      <p:sp>
        <p:nvSpPr>
          <p:cNvPr id="8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86"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ftr" idx="7"/>
          </p:nvPr>
        </p:nvSpPr>
        <p:spPr>
          <a:xfrm>
            <a:off x="882360" y="9878760"/>
            <a:ext cx="1165320" cy="214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object 10"/>
          <p:cNvSpPr/>
          <p:nvPr/>
        </p:nvSpPr>
        <p:spPr>
          <a:xfrm>
            <a:off x="1476360" y="1844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5" name="object 11"/>
          <p:cNvSpPr/>
          <p:nvPr/>
        </p:nvSpPr>
        <p:spPr>
          <a:xfrm>
            <a:off x="2624040" y="19177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6" name="object 22"/>
          <p:cNvSpPr/>
          <p:nvPr/>
        </p:nvSpPr>
        <p:spPr>
          <a:xfrm>
            <a:off x="571680" y="10045800"/>
            <a:ext cx="2003400" cy="2379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Fira Sans OT"/>
                <a:ea typeface="Fira Sans OT"/>
              </a:rPr>
              <a:t>Author or Company</a:t>
            </a:r>
            <a:endParaRPr b="0" lang="en-US" sz="1200" spc="-1" strike="noStrike">
              <a:solidFill>
                <a:srgbClr val="000000"/>
              </a:solidFill>
              <a:latin typeface="Arial"/>
            </a:endParaRPr>
          </a:p>
        </p:txBody>
      </p:sp>
      <p:sp>
        <p:nvSpPr>
          <p:cNvPr id="127" name="object 13"/>
          <p:cNvSpPr/>
          <p:nvPr/>
        </p:nvSpPr>
        <p:spPr>
          <a:xfrm>
            <a:off x="4253040" y="6923160"/>
            <a:ext cx="3925800" cy="31417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object 22"/>
          <p:cNvSpPr/>
          <p:nvPr/>
        </p:nvSpPr>
        <p:spPr>
          <a:xfrm>
            <a:off x="5402160" y="10077480"/>
            <a:ext cx="2003400" cy="2379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Fira Sans OT"/>
                <a:ea typeface="Fira Sans OT"/>
              </a:rPr>
              <a:t>YOUR LOGO</a:t>
            </a:r>
            <a:endParaRPr b="0" lang="en-US" sz="1200" spc="-1" strike="noStrike">
              <a:solidFill>
                <a:srgbClr val="000000"/>
              </a:solidFill>
              <a:latin typeface="Arial"/>
            </a:endParaRPr>
          </a:p>
        </p:txBody>
      </p:sp>
      <p:pic>
        <p:nvPicPr>
          <p:cNvPr id="129" name="Picture 12" descr=""/>
          <p:cNvPicPr/>
          <p:nvPr/>
        </p:nvPicPr>
        <p:blipFill>
          <a:blip r:embed="rId1"/>
          <a:srcRect l="0" t="0" r="29440" b="0"/>
          <a:stretch/>
        </p:blipFill>
        <p:spPr>
          <a:xfrm>
            <a:off x="11160" y="0"/>
            <a:ext cx="7545240" cy="10693440"/>
          </a:xfrm>
          <a:prstGeom prst="rect">
            <a:avLst/>
          </a:prstGeom>
          <a:ln w="0">
            <a:noFill/>
          </a:ln>
        </p:spPr>
      </p:pic>
      <p:sp>
        <p:nvSpPr>
          <p:cNvPr id="130" name="object 10"/>
          <p:cNvSpPr/>
          <p:nvPr/>
        </p:nvSpPr>
        <p:spPr>
          <a:xfrm>
            <a:off x="1476360" y="1844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1" name="object 11"/>
          <p:cNvSpPr/>
          <p:nvPr/>
        </p:nvSpPr>
        <p:spPr>
          <a:xfrm>
            <a:off x="2624040" y="19177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2" name="object 22"/>
          <p:cNvSpPr/>
          <p:nvPr/>
        </p:nvSpPr>
        <p:spPr>
          <a:xfrm>
            <a:off x="571680" y="10045800"/>
            <a:ext cx="2003400" cy="2379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ira Sans OT"/>
                <a:ea typeface="Fira Sans OT"/>
              </a:rPr>
              <a:t>Author or Company</a:t>
            </a:r>
            <a:endParaRPr b="0" lang="en-US" sz="1200" spc="-1" strike="noStrike">
              <a:solidFill>
                <a:srgbClr val="000000"/>
              </a:solidFill>
              <a:latin typeface="Arial"/>
            </a:endParaRPr>
          </a:p>
        </p:txBody>
      </p:sp>
      <p:sp>
        <p:nvSpPr>
          <p:cNvPr id="133" name="object 17"/>
          <p:cNvSpPr/>
          <p:nvPr/>
        </p:nvSpPr>
        <p:spPr>
          <a:xfrm>
            <a:off x="993600" y="4059360"/>
            <a:ext cx="3775320" cy="5252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6a6a6"/>
                </a:solidFill>
                <a:latin typeface="Fira Sans OT"/>
              </a:rPr>
              <a:t>Eria nimoditatia voluptatas aut la nimint molore velenda </a:t>
            </a:r>
            <a:r>
              <a:rPr b="1" lang="en-US" sz="1600" spc="-1" strike="noStrike">
                <a:solidFill>
                  <a:srgbClr val="a6a6a6"/>
                </a:solidFill>
                <a:latin typeface="Fira Sans OT"/>
              </a:rPr>
              <a:t>debissitio.</a:t>
            </a:r>
            <a:endParaRPr b="0" lang="en-US" sz="1600" spc="-1" strike="noStrike">
              <a:solidFill>
                <a:srgbClr val="000000"/>
              </a:solidFill>
              <a:latin typeface="Arial"/>
            </a:endParaRPr>
          </a:p>
        </p:txBody>
      </p:sp>
      <p:sp>
        <p:nvSpPr>
          <p:cNvPr id="134" name="object 20"/>
          <p:cNvSpPr/>
          <p:nvPr/>
        </p:nvSpPr>
        <p:spPr>
          <a:xfrm>
            <a:off x="5316480" y="525600"/>
            <a:ext cx="1809720" cy="28321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a6a6a6"/>
                </a:solidFill>
                <a:latin typeface="Fira Sans OT"/>
              </a:rPr>
              <a:t>Undia nobit, ipsandis nos conse cor andae velibus, sitiumqui unt</a:t>
            </a:r>
            <a:r>
              <a:rPr b="1" lang="en-US" sz="800" spc="-1" strike="noStrike">
                <a:solidFill>
                  <a:srgbClr val="ffffff"/>
                </a:solidFill>
                <a:latin typeface="Fira Sans OT"/>
              </a:rPr>
              <a:t>.</a:t>
            </a:r>
            <a:endParaRPr b="0" lang="en-US" sz="800" spc="-1" strike="noStrike">
              <a:solidFill>
                <a:srgbClr val="000000"/>
              </a:solidFill>
              <a:latin typeface="Arial"/>
            </a:endParaRPr>
          </a:p>
        </p:txBody>
      </p:sp>
      <p:sp>
        <p:nvSpPr>
          <p:cNvPr id="135" name="object 13"/>
          <p:cNvSpPr/>
          <p:nvPr/>
        </p:nvSpPr>
        <p:spPr>
          <a:xfrm>
            <a:off x="730080" y="2468520"/>
            <a:ext cx="7161480" cy="31417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77933c"/>
                </a:solidFill>
                <a:latin typeface="League Gothic"/>
                <a:ea typeface="League Gothic"/>
              </a:rPr>
              <a:t>The Ebook</a:t>
            </a:r>
            <a:endParaRPr b="0" lang="en-US" sz="9600" spc="-1" strike="noStrike">
              <a:solidFill>
                <a:srgbClr val="000000"/>
              </a:solidFill>
              <a:latin typeface="Arial"/>
            </a:endParaRPr>
          </a:p>
        </p:txBody>
      </p:sp>
      <p:sp>
        <p:nvSpPr>
          <p:cNvPr id="136" name="object 22"/>
          <p:cNvSpPr/>
          <p:nvPr/>
        </p:nvSpPr>
        <p:spPr>
          <a:xfrm>
            <a:off x="5553000" y="5491080"/>
            <a:ext cx="2003400" cy="2383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Fira Sans OT"/>
                <a:ea typeface="Fira Sans OT"/>
              </a:rPr>
              <a:t>YOUR LO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object 9"/>
          <p:cNvSpPr/>
          <p:nvPr/>
        </p:nvSpPr>
        <p:spPr>
          <a:xfrm>
            <a:off x="147636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8" name="object 10"/>
          <p:cNvSpPr/>
          <p:nvPr/>
        </p:nvSpPr>
        <p:spPr>
          <a:xfrm>
            <a:off x="2624040" y="1814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9" name="object 11"/>
          <p:cNvSpPr/>
          <p:nvPr/>
        </p:nvSpPr>
        <p:spPr>
          <a:xfrm>
            <a:off x="366228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0" name="object 12"/>
          <p:cNvSpPr/>
          <p:nvPr/>
        </p:nvSpPr>
        <p:spPr>
          <a:xfrm>
            <a:off x="4383000" y="1817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1" name="object 13"/>
          <p:cNvSpPr/>
          <p:nvPr/>
        </p:nvSpPr>
        <p:spPr>
          <a:xfrm>
            <a:off x="516564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2" name="object 14"/>
          <p:cNvSpPr/>
          <p:nvPr/>
        </p:nvSpPr>
        <p:spPr>
          <a:xfrm>
            <a:off x="6083280" y="1822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3" name="object 15"/>
          <p:cNvSpPr/>
          <p:nvPr/>
        </p:nvSpPr>
        <p:spPr>
          <a:xfrm>
            <a:off x="1706400" y="1144440"/>
            <a:ext cx="232596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933c"/>
                </a:solidFill>
                <a:latin typeface="Myriad Pro"/>
                <a:ea typeface="Myriad Pro"/>
              </a:rPr>
              <a:t>Contents</a:t>
            </a:r>
            <a:endParaRPr b="0" lang="en-US" sz="3600" spc="-1" strike="noStrike">
              <a:solidFill>
                <a:srgbClr val="000000"/>
              </a:solidFill>
              <a:latin typeface="Arial"/>
            </a:endParaRPr>
          </a:p>
        </p:txBody>
      </p:sp>
      <p:sp>
        <p:nvSpPr>
          <p:cNvPr id="144" name="object 26"/>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45" name="Slide Number Placeholder 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E8E0-5C63-4D20-8B17-A4EBC2A05EAB}"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46" name="object 16"/>
          <p:cNvSpPr/>
          <p:nvPr/>
        </p:nvSpPr>
        <p:spPr>
          <a:xfrm>
            <a:off x="5149800" y="2227320"/>
            <a:ext cx="99072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933c"/>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933c"/>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933c"/>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933c"/>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933c"/>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933c"/>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933c"/>
                </a:solidFill>
                <a:latin typeface="Fira Sans OT Medium"/>
                <a:ea typeface="Fira Sans OT Medium"/>
              </a:rPr>
              <a:t>1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933c"/>
                </a:solidFill>
                <a:latin typeface="Fira Sans OT Medium"/>
                <a:ea typeface="Fira Sans OT Medium"/>
              </a:rPr>
              <a:t>19</a:t>
            </a:r>
            <a:endParaRPr b="0" lang="en-US" sz="2500" spc="-1" strike="noStrike">
              <a:solidFill>
                <a:srgbClr val="000000"/>
              </a:solidFill>
              <a:latin typeface="Arial"/>
            </a:endParaRPr>
          </a:p>
        </p:txBody>
      </p:sp>
      <p:sp>
        <p:nvSpPr>
          <p:cNvPr id="147" name="object 17"/>
          <p:cNvSpPr/>
          <p:nvPr/>
        </p:nvSpPr>
        <p:spPr>
          <a:xfrm>
            <a:off x="1712880" y="2322360"/>
            <a:ext cx="2057400" cy="2494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48" name="object 18"/>
          <p:cNvSpPr/>
          <p:nvPr/>
        </p:nvSpPr>
        <p:spPr>
          <a:xfrm>
            <a:off x="1712880" y="2703600"/>
            <a:ext cx="172872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49" name="object 19"/>
          <p:cNvSpPr/>
          <p:nvPr/>
        </p:nvSpPr>
        <p:spPr>
          <a:xfrm>
            <a:off x="1712880" y="3084480"/>
            <a:ext cx="2594160" cy="46188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50" name="object 20"/>
          <p:cNvSpPr/>
          <p:nvPr/>
        </p:nvSpPr>
        <p:spPr>
          <a:xfrm>
            <a:off x="1712880" y="3679920"/>
            <a:ext cx="231948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51" name="object 21"/>
          <p:cNvSpPr/>
          <p:nvPr/>
        </p:nvSpPr>
        <p:spPr>
          <a:xfrm>
            <a:off x="1712880" y="406080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52" name="object 22"/>
          <p:cNvSpPr/>
          <p:nvPr/>
        </p:nvSpPr>
        <p:spPr>
          <a:xfrm>
            <a:off x="1712880" y="4441680"/>
            <a:ext cx="13208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53" name="object 23"/>
          <p:cNvSpPr/>
          <p:nvPr/>
        </p:nvSpPr>
        <p:spPr>
          <a:xfrm>
            <a:off x="1712880" y="4822920"/>
            <a:ext cx="248616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54" name="object 24"/>
          <p:cNvSpPr/>
          <p:nvPr/>
        </p:nvSpPr>
        <p:spPr>
          <a:xfrm>
            <a:off x="1712880" y="5203800"/>
            <a:ext cx="23670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56" name="object 4"/>
          <p:cNvSpPr/>
          <p:nvPr/>
        </p:nvSpPr>
        <p:spPr>
          <a:xfrm>
            <a:off x="762120" y="1081080"/>
            <a:ext cx="46162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yriad Pro"/>
                <a:ea typeface="Myriad Pro"/>
              </a:rPr>
              <a:t>First Header</a:t>
            </a:r>
            <a:endParaRPr b="0" lang="en-US" sz="3600" spc="-1" strike="noStrike">
              <a:solidFill>
                <a:srgbClr val="000000"/>
              </a:solidFill>
              <a:latin typeface="Arial"/>
            </a:endParaRPr>
          </a:p>
        </p:txBody>
      </p:sp>
      <p:sp>
        <p:nvSpPr>
          <p:cNvPr id="157" name="object 10"/>
          <p:cNvSpPr/>
          <p:nvPr/>
        </p:nvSpPr>
        <p:spPr>
          <a:xfrm>
            <a:off x="147780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8" name="object 11"/>
          <p:cNvSpPr/>
          <p:nvPr/>
        </p:nvSpPr>
        <p:spPr>
          <a:xfrm>
            <a:off x="2625840" y="998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9" name="object 12"/>
          <p:cNvSpPr/>
          <p:nvPr/>
        </p:nvSpPr>
        <p:spPr>
          <a:xfrm>
            <a:off x="366408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0" name="object 13"/>
          <p:cNvSpPr/>
          <p:nvPr/>
        </p:nvSpPr>
        <p:spPr>
          <a:xfrm>
            <a:off x="4384800" y="1003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1" name="object 14"/>
          <p:cNvSpPr/>
          <p:nvPr/>
        </p:nvSpPr>
        <p:spPr>
          <a:xfrm>
            <a:off x="516744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2" name="object 15"/>
          <p:cNvSpPr/>
          <p:nvPr/>
        </p:nvSpPr>
        <p:spPr>
          <a:xfrm>
            <a:off x="60847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3" name="object 19"/>
          <p:cNvSpPr/>
          <p:nvPr/>
        </p:nvSpPr>
        <p:spPr>
          <a:xfrm>
            <a:off x="762120" y="2133720"/>
            <a:ext cx="5987880" cy="178092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933c"/>
                </a:solidFill>
                <a:latin typeface="Calibri"/>
              </a:rPr>
              <a:t>alibea quo evellup taspidelles dus plab ium, od molores nullaboreius dem et reicil maximen da- ecatur, to et quat quam, ut quis am que eossimus voluptur sim quate vel inus inime pore vel enit, as erum quo eat volupta commos delit quodicium aut aut qui aut ut facesequidis et voluptiam, inctendis iusam qui simus.</a:t>
            </a:r>
            <a:endParaRPr b="0" lang="en-US" sz="1600" spc="-1" strike="noStrike">
              <a:solidFill>
                <a:srgbClr val="000000"/>
              </a:solidFill>
              <a:latin typeface="Arial"/>
            </a:endParaRPr>
          </a:p>
        </p:txBody>
      </p:sp>
      <p:sp>
        <p:nvSpPr>
          <p:cNvPr id="164" name="object 20"/>
          <p:cNvSpPr/>
          <p:nvPr/>
        </p:nvSpPr>
        <p:spPr>
          <a:xfrm>
            <a:off x="871560" y="4181400"/>
            <a:ext cx="5792760" cy="101772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Faccusd aesequi beatur min non con nonest fugiati tem ut reptus as soloren ditatia sperro que nus, te et quiandestem quost, sequaes velest licit qui doluptatus, quiate con reprat. Aliqu- ias rehendemo fuga. Ut ex eos molore, tem excersp iducipsae voloreptam harchilit qui</a:t>
            </a:r>
            <a:endParaRPr b="0" lang="en-US" sz="1000" spc="-1" strike="noStrike">
              <a:solidFill>
                <a:srgbClr val="000000"/>
              </a:solidFill>
              <a:latin typeface="Arial"/>
            </a:endParaRPr>
          </a:p>
        </p:txBody>
      </p:sp>
      <p:sp>
        <p:nvSpPr>
          <p:cNvPr id="165" name="object 21"/>
          <p:cNvSpPr/>
          <p:nvPr/>
        </p:nvSpPr>
        <p:spPr>
          <a:xfrm>
            <a:off x="4692600" y="5083200"/>
            <a:ext cx="2209680" cy="21747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con rectia qui corrovit, voluptam voluptae cuptatis dolo molest parchicimus es sint acepratiis explicia peribusciae eossero que non re non plant et quatatur, as dolum aut est, si odiciundae pratur, am im dipsape- ro bla dolupta vidit, torepra temquatus autatur, nonsend estiae officiist voluptias nossenist ut eium volupit, omnis eossitias am est.</a:t>
            </a:r>
            <a:endParaRPr b="0" lang="en-US" sz="1000" spc="-1" strike="noStrike">
              <a:solidFill>
                <a:srgbClr val="000000"/>
              </a:solidFill>
              <a:latin typeface="Arial"/>
            </a:endParaRPr>
          </a:p>
        </p:txBody>
      </p:sp>
      <p:sp>
        <p:nvSpPr>
          <p:cNvPr id="166" name="object 22"/>
          <p:cNvSpPr/>
          <p:nvPr/>
        </p:nvSpPr>
        <p:spPr>
          <a:xfrm>
            <a:off x="885960" y="7583400"/>
            <a:ext cx="5762520" cy="10191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sp>
        <p:nvSpPr>
          <p:cNvPr id="167" name="object 4"/>
          <p:cNvSpPr/>
          <p:nvPr/>
        </p:nvSpPr>
        <p:spPr>
          <a:xfrm>
            <a:off x="1057320" y="693720"/>
            <a:ext cx="46162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8" name="Picture 16" descr=""/>
          <p:cNvPicPr/>
          <p:nvPr/>
        </p:nvPicPr>
        <p:blipFill>
          <a:blip r:embed="rId1"/>
          <a:stretch/>
        </p:blipFill>
        <p:spPr>
          <a:xfrm>
            <a:off x="871560" y="5083200"/>
            <a:ext cx="3440160" cy="227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0" name="Rectangle 2"/>
          <p:cNvSpPr/>
          <p:nvPr/>
        </p:nvSpPr>
        <p:spPr>
          <a:xfrm flipH="1" flipV="1">
            <a:off x="576720" y="4927680"/>
            <a:ext cx="2438280" cy="3822480"/>
          </a:xfrm>
          <a:prstGeom prst="rect">
            <a:avLst/>
          </a:prstGeom>
          <a:solidFill>
            <a:srgbClr val="7793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object 10"/>
          <p:cNvSpPr/>
          <p:nvPr/>
        </p:nvSpPr>
        <p:spPr>
          <a:xfrm>
            <a:off x="1476360" y="1844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2" name="object 11"/>
          <p:cNvSpPr/>
          <p:nvPr/>
        </p:nvSpPr>
        <p:spPr>
          <a:xfrm>
            <a:off x="2624040" y="19177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3" name="object 22"/>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74" name="object 17"/>
          <p:cNvSpPr/>
          <p:nvPr/>
        </p:nvSpPr>
        <p:spPr>
          <a:xfrm>
            <a:off x="577800" y="3780000"/>
            <a:ext cx="3774960" cy="5252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933c"/>
                </a:solidFill>
                <a:latin typeface="Fira Sans OT"/>
              </a:rPr>
              <a:t>Eria nimoditatia voluptatas aut la nimint molore velenda debissitio.</a:t>
            </a:r>
            <a:endParaRPr b="0" lang="en-US" sz="1600" spc="-1" strike="noStrike">
              <a:solidFill>
                <a:srgbClr val="000000"/>
              </a:solidFill>
              <a:latin typeface="Arial"/>
            </a:endParaRPr>
          </a:p>
        </p:txBody>
      </p:sp>
      <p:sp>
        <p:nvSpPr>
          <p:cNvPr id="175" name="object 18"/>
          <p:cNvSpPr/>
          <p:nvPr/>
        </p:nvSpPr>
        <p:spPr>
          <a:xfrm>
            <a:off x="3325680" y="4927680"/>
            <a:ext cx="38037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 estis as aligenda con rernam ant volorem iur? Fugia du- ciis dolla cuscipsam quas sequae nis alicit litas nobitat emquat volore, invelique nobit latur molorrum ellam eatum quidit, que sit excea et pra accabo. Et aut mos dolore estor at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us unditiusci diatis mos sant, ommodis ad quias ea sin essint, corum velluptate vel mi, nullaborrum inveles quatias ex etur, conet, omnihitatum dolupie ndelis as nos nistis eturem sintibus sedit peritib usciis doluptat qui ipsus nus est, ium et od explatatus essinimilis aut qui serumqui bero quae voluptaeped ut delestotas abo. Itam nonet vel ipsandus dolorep tusaest, imus es aut lande nost, ut quatia ab ipsus mod qui utendae acest ipsam, accum rehent autessunt vel et mo tem fuga. Et a volest, ipicipsam, consequate volendust volor at ut pligni dolo doluptas ra doluptaerum, experioria doluptatis adia si re, sam hilit aceprei cimodis doluptibus rem landign ihillen ectotae. Et excea cum</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t opta di nus mos exceatium quatio. Untur aribusciis doluptia nosaped mo blatios et eveni ipsunt.</a:t>
            </a:r>
            <a:endParaRPr b="0" lang="en-US" sz="1000" spc="-1" strike="noStrike">
              <a:solidFill>
                <a:srgbClr val="000000"/>
              </a:solidFill>
              <a:latin typeface="Arial"/>
            </a:endParaRPr>
          </a:p>
        </p:txBody>
      </p:sp>
      <p:sp>
        <p:nvSpPr>
          <p:cNvPr id="176" name="object 20"/>
          <p:cNvSpPr/>
          <p:nvPr/>
        </p:nvSpPr>
        <p:spPr>
          <a:xfrm>
            <a:off x="887400" y="5295960"/>
            <a:ext cx="1809720" cy="28321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 adiati adit la comnitatur, odicimod molupta tem- porem renetus qui ut lab idelit harunt lab ius porit archillorum, ipsum et aut la vendit liquisquodi alitibe arunt. Tassequ iaturis estiostias sum sedia que eatiaes est exerroreicti com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8" name="object 5"/>
          <p:cNvSpPr/>
          <p:nvPr/>
        </p:nvSpPr>
        <p:spPr>
          <a:xfrm>
            <a:off x="870120" y="3670200"/>
            <a:ext cx="3576600" cy="527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933c"/>
                </a:solidFill>
                <a:latin typeface="Fira Sans OT"/>
              </a:rPr>
              <a:t>Axim alibea cuscienis eos sit alit erunt iducit iumque nectiunt</a:t>
            </a:r>
            <a:endParaRPr b="0" lang="en-US" sz="1600" spc="-1" strike="noStrike">
              <a:solidFill>
                <a:srgbClr val="000000"/>
              </a:solidFill>
              <a:latin typeface="Arial"/>
            </a:endParaRPr>
          </a:p>
        </p:txBody>
      </p:sp>
      <p:sp>
        <p:nvSpPr>
          <p:cNvPr id="179" name="object 6"/>
          <p:cNvSpPr/>
          <p:nvPr/>
        </p:nvSpPr>
        <p:spPr>
          <a:xfrm>
            <a:off x="870120" y="4303800"/>
            <a:ext cx="3619440" cy="1216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e offictem. Nam liqui doluptium consedi genditi apicieni dente ne conseris comnim re porem et venis aut iunt derio expe re ipsapiderrum et oditatem faciist, intem quiam quo magnatem ad evenis expelitem nis cusdaec upienimus moles ma explab int int, et acea delliatus paruntiasit ut ventis dolorectat.</a:t>
            </a:r>
            <a:endParaRPr b="0" lang="en-US" sz="1000" spc="-1" strike="noStrike">
              <a:solidFill>
                <a:srgbClr val="000000"/>
              </a:solidFill>
              <a:latin typeface="Arial"/>
            </a:endParaRPr>
          </a:p>
        </p:txBody>
      </p:sp>
      <p:sp>
        <p:nvSpPr>
          <p:cNvPr id="180" name="object 7"/>
          <p:cNvSpPr/>
          <p:nvPr/>
        </p:nvSpPr>
        <p:spPr>
          <a:xfrm>
            <a:off x="870120" y="5689440"/>
            <a:ext cx="3614400" cy="359280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con rereiunt aut earitatiost aut et acereperem qui blaut volor repro ipsapiet la idusapernam quo dolestenihil id magnamus con pedipie ndempor porerferi oditionsequi</a:t>
            </a:r>
            <a:endParaRPr b="0" lang="en-US" sz="1000" spc="-1" strike="noStrike">
              <a:solidFill>
                <a:srgbClr val="000000"/>
              </a:solidFill>
              <a:latin typeface="Arial"/>
            </a:endParaRPr>
          </a:p>
        </p:txBody>
      </p:sp>
      <p:sp>
        <p:nvSpPr>
          <p:cNvPr id="181" name="object 13"/>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82" name="object 1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AE42-C5FC-4A10-9AFB-AA2C12D1BCD7}"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pic>
        <p:nvPicPr>
          <p:cNvPr id="183" name="Picture 12" descr=""/>
          <p:cNvPicPr/>
          <p:nvPr/>
        </p:nvPicPr>
        <p:blipFill>
          <a:blip r:embed="rId1"/>
          <a:stretch/>
        </p:blipFill>
        <p:spPr>
          <a:xfrm>
            <a:off x="4921200" y="3670200"/>
            <a:ext cx="2336760" cy="3505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object 9"/>
          <p:cNvSpPr/>
          <p:nvPr/>
        </p:nvSpPr>
        <p:spPr>
          <a:xfrm>
            <a:off x="3328920" y="3746520"/>
            <a:ext cx="3353040" cy="15368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ing</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 te etur? Quibus con conem vendam eatet aborum nis quidebi</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ssitas et volupta ditior rem et harci optasincim quo te sequasim quam volupta ssequiamet asperionesto tem vendestint. Ut aci te officit veni rehendit, que doluptam que id magnat. Is autasit emporiatur sume landaerupta vid eosam doluptatius porerchic</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tem fugiae dolessediti vit, qui dolupti odiscil escipit ibusapelique pre, quodita tionsedite.Inustem re voluptat. Tium harum iuribus daerum expliquo verum solupta</a:t>
            </a:r>
            <a:endParaRPr b="0" lang="en-US" sz="900" spc="-1" strike="noStrike">
              <a:solidFill>
                <a:srgbClr val="000000"/>
              </a:solidFill>
              <a:latin typeface="Arial"/>
            </a:endParaRPr>
          </a:p>
        </p:txBody>
      </p:sp>
      <p:sp>
        <p:nvSpPr>
          <p:cNvPr id="185" name="object 10"/>
          <p:cNvSpPr/>
          <p:nvPr/>
        </p:nvSpPr>
        <p:spPr>
          <a:xfrm>
            <a:off x="900000" y="5524560"/>
            <a:ext cx="577548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 sitaecus aut restrum asitas as ma ditio. Ut volentio. Orumqui atusciatem dem quam, secestrum ellictem qui nus aute pliandio ime porendus aut mi, natur? Otasped eiusda sum aut eos aceatiore- sti seceratem. Rum vendus excerchitius nulliqui idendist, venetur, offictium am ero blabori onsequ- ibus aut ilitium et porepedi auda volore net officide ei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iatum landit laceatur aut expliti duciet quam, ulparum, intus. Exceat. Molorento veribusda dus si reprovit, quia dolupta temporest lanit apernam non nonsendit res dunt dolupti onsequam et doluptatis autatio idebitibusae nonsernatur, eaque quam voluptatem et volessequam et veles dent pore nusciae. Abor autas ullutaero odit, omnis abo. </a:t>
            </a:r>
            <a:endParaRPr b="0" lang="en-US" sz="1000" spc="-1" strike="noStrike">
              <a:solidFill>
                <a:srgbClr val="000000"/>
              </a:solidFill>
              <a:latin typeface="Arial"/>
            </a:endParaRPr>
          </a:p>
        </p:txBody>
      </p:sp>
      <p:sp>
        <p:nvSpPr>
          <p:cNvPr id="186" name="Footer Placeholder 8"/>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pic>
        <p:nvPicPr>
          <p:cNvPr id="187" name="Picture 9" descr=""/>
          <p:cNvPicPr/>
          <p:nvPr/>
        </p:nvPicPr>
        <p:blipFill>
          <a:blip r:embed="rId1"/>
          <a:stretch/>
        </p:blipFill>
        <p:spPr>
          <a:xfrm>
            <a:off x="882720" y="3784680"/>
            <a:ext cx="2190600" cy="1460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89" name="object 7"/>
          <p:cNvSpPr/>
          <p:nvPr/>
        </p:nvSpPr>
        <p:spPr>
          <a:xfrm>
            <a:off x="882720" y="3213000"/>
            <a:ext cx="2496960" cy="59929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er</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0" name="object 9"/>
          <p:cNvSpPr/>
          <p:nvPr/>
        </p:nvSpPr>
        <p:spPr>
          <a:xfrm>
            <a:off x="3854520" y="3213000"/>
            <a:ext cx="2809800" cy="3441960"/>
          </a:xfrm>
          <a:prstGeom prst="rect">
            <a:avLst/>
          </a:prstGeom>
          <a:noFill/>
          <a:ln w="0">
            <a:noFill/>
          </a:ln>
        </p:spPr>
        <p:style>
          <a:lnRef idx="0"/>
          <a:fillRef idx="0"/>
          <a:effectRef idx="0"/>
          <a:fontRef idx="minor"/>
        </p:style>
        <p:txBody>
          <a:bodyPr lIns="0" rIns="0" tIns="0" bIns="0" anchor="t">
            <a:noAutofit/>
          </a:bodyPr>
          <a:p>
            <a:pPr marL="12600">
              <a:lnSpc>
                <a:spcPct val="12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77933c"/>
                </a:solidFill>
                <a:latin typeface="Fira Sans OT"/>
              </a:rPr>
              <a:t>Sum facipsaectur simet elitatem il </a:t>
            </a:r>
            <a:r>
              <a:rPr b="0" lang="en-US" sz="1000" spc="-1" strike="noStrike">
                <a:solidFill>
                  <a:srgbClr val="000000"/>
                </a:solidFill>
                <a:latin typeface="Fira Sans OT"/>
              </a:rPr>
              <a:t>is abore nostrum est ma quis net vel ipsae porro int, eseque quibus. Onseque dis pres doluptat porempo rerunt utatior emolupta sa- piet rest, ad et exero quis doloribus. Ucipsapis</a:t>
            </a:r>
            <a:endParaRPr b="0" lang="en-US" sz="1000" spc="-1" strike="noStrike">
              <a:solidFill>
                <a:srgbClr val="000000"/>
              </a:solidFill>
              <a:latin typeface="Arial"/>
            </a:endParaRPr>
          </a:p>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idest ibusam ipiendis ene core cus arcit, nus milignati ut as arum iusciist, corem fuga. Nam re molest in nia autatemo voluptatqui odi alia verum et hicabor aut harum la ipictibus nobitis sequiate verum, cum sam doloris aligent ut as cusdantiae. Ibus natiandipsam as niae conet de quo totam accus am necae voloreptatem aut etur? Quis sa velluptate simoluptae iduntem que sinus ut anducillamus audae prerias aut quodi rat que ped molut qui tem et volorepel ma ne aut acererchic tem nati cum fugiate mpo- rendaesed eum a qui sed modiscid u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92" name="object 4"/>
          <p:cNvSpPr/>
          <p:nvPr/>
        </p:nvSpPr>
        <p:spPr>
          <a:xfrm>
            <a:off x="1797120" y="5715000"/>
            <a:ext cx="4902120" cy="4978440"/>
          </a:xfrm>
          <a:prstGeom prst="rect">
            <a:avLst/>
          </a:prstGeom>
          <a:noFill/>
          <a:ln w="0">
            <a:noFill/>
          </a:ln>
        </p:spPr>
        <p:style>
          <a:lnRef idx="0"/>
          <a:fillRef idx="0"/>
          <a:effectRef idx="0"/>
          <a:fontRef idx="minor"/>
        </p:style>
        <p:txBody>
          <a:bodyPr lIns="0" rIns="0" tIns="0" bIns="0" anchor="t">
            <a:noAutofit/>
          </a:bodyPr>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Fira Sans OT"/>
              </a:rPr>
              <a:t>Ro consequiae lauda inum dolum harum nata nonectisque nem essi ut eiunt essi consequ isquias consecest eum volorro reriorit, sam, sit assi dolupti nimustr upitatu ribusandi dolume magnienimin porio. Mint volo consequ asperum adi bla culpa seque doluptatia comnim quatem lisquam dusanimento maio berumquid ma volum nonsequi de volo eost, ut la quid quam id que lam quiatem quuntio omnis re corit, sitaspe ditibus erchicidemos nis auda ius.</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Fira Sans OT"/>
              </a:rPr>
              <a:t>Acerem solore evendebit a voloreperro vento omnit ut et as duciis aut repellorrum estoriate consequod qui to blam dolorem fugit as est, qu-</a:t>
            </a:r>
            <a:endParaRPr b="0" lang="en-US" sz="1000" spc="-1" strike="noStrike">
              <a:solidFill>
                <a:srgbClr val="000000"/>
              </a:solidFill>
              <a:latin typeface="Arial"/>
            </a:endParaRPr>
          </a:p>
          <a:p>
            <a:pPr marL="197316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7933c"/>
                </a:solidFill>
                <a:latin typeface="Fira Sans OT"/>
              </a:rPr>
              <a:t>amet vero te liquos niet doluptat remqui recabo. Solecestrum fugia quod quid ma- gnist quam aut qui cum eaquat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1:23:54Z</dcterms:modified>
  <cp:revision>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