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9B40CE8-27B0-4498-800C-D446C2084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C5056C3-8117-4CE1-BBFF-DC0FBBAA2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9C5F46C-5CF7-4159-A540-6D18F6AA4B6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21CF736-AA6D-4D10-A4D7-A6F05474214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AE464197-86D3-4518-98B8-775CFE92E0E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2B1B90D-6DDB-472F-9F0B-73B8D0DCC9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22D60CD-ADC6-47AB-9D58-A1CE19FE5B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7E1292F-97AA-41FD-963B-D81C47D6BD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339CB0A-392D-4736-85B2-38D10ED5D3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91451EC-6084-4DEA-B037-3BD88590EA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4A4859E-475C-4E2C-95B5-E57010BA9D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C953233-257B-4106-9D5D-3DF4C6554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9F716C0-262D-4A9C-BB86-50889E7FB1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FAB6F62-E868-46C2-A740-5D67FFA4B6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16072A6-22C5-427E-9567-4548191CAC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7F91F8CD-072D-42DF-AD13-57023962176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A8392194-2358-4978-9DC1-105ECE5CCF8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1"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3"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5"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E3B5B78-1998-46C8-9DAA-FDAED802E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4"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0"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66559BD-FBC1-4F01-8056-E9480B66D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4F0CCC9-B3E1-42AA-AB48-83BECC00C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6443556-02E7-4BE5-B3B4-50A1A92F7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E26BD46-EEA9-4EB0-A4B0-CF6971752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39C51F4-11B3-4B5B-B65C-D9A965F23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CBB6194-4CC5-4A24-A597-5E0FE9A4FDC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54D2-BBEB-4192-8985-C78350859B49}"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B381-FD0A-4BBC-9952-1B7A7B54EDB5}"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7546-48FF-4EC5-9C37-09EFFE10E264}"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CDFF-40C8-485D-BC4E-5872AE9DAA79}"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2F31-9F99-42CB-8B23-2B1FC20CD8C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rcRect l="0" t="0" r="9275" b="73891"/>
          <a:stretch/>
        </p:blipFill>
        <p:spPr>
          <a:xfrm>
            <a:off x="-44280" y="138240"/>
            <a:ext cx="3593880" cy="990360"/>
          </a:xfrm>
          <a:prstGeom prst="rect">
            <a:avLst/>
          </a:prstGeom>
          <a:ln w="0">
            <a:noFill/>
          </a:ln>
        </p:spPr>
      </p:pic>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8"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Rectangle 189"/>
          <p:cNvSpPr/>
          <p:nvPr/>
        </p:nvSpPr>
        <p:spPr>
          <a:xfrm>
            <a:off x="-27000" y="-14400"/>
            <a:ext cx="7586640" cy="6939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54"/>
          <p:cNvSpPr/>
          <p:nvPr/>
        </p:nvSpPr>
        <p:spPr>
          <a:xfrm>
            <a:off x="324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ject 13"/>
          <p:cNvSpPr/>
          <p:nvPr/>
        </p:nvSpPr>
        <p:spPr>
          <a:xfrm>
            <a:off x="958680" y="6184800"/>
            <a:ext cx="601992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League Gothic"/>
                <a:ea typeface="League Gothic"/>
              </a:rPr>
              <a:t>Landing Page Guide</a:t>
            </a:r>
            <a:endParaRPr b="0" lang="en-US" sz="7200" spc="-1" strike="noStrike">
              <a:solidFill>
                <a:srgbClr val="000000"/>
              </a:solidFill>
              <a:latin typeface="Arial"/>
            </a:endParaRPr>
          </a:p>
        </p:txBody>
      </p:sp>
      <p:sp>
        <p:nvSpPr>
          <p:cNvPr id="129"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0"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1" name="Picture 1" descr=""/>
          <p:cNvPicPr/>
          <p:nvPr/>
        </p:nvPicPr>
        <p:blipFill>
          <a:blip r:embed="rId1"/>
          <a:stretch/>
        </p:blipFill>
        <p:spPr>
          <a:xfrm>
            <a:off x="50760" y="2373480"/>
            <a:ext cx="7537320" cy="34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39"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0"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981D-0D76-4617-B573-19C7C84B6F8C}"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1" name="object 16"/>
          <p:cNvSpPr/>
          <p:nvPr/>
        </p:nvSpPr>
        <p:spPr>
          <a:xfrm>
            <a:off x="5456160" y="3902040"/>
            <a:ext cx="68436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2"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3"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4"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5"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6"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7"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8"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9"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1"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22"/>
          <p:cNvSpPr/>
          <p:nvPr/>
        </p:nvSpPr>
        <p:spPr>
          <a:xfrm>
            <a:off x="882720" y="6006960"/>
            <a:ext cx="576252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pic>
        <p:nvPicPr>
          <p:cNvPr id="158" name="Picture 2" descr=""/>
          <p:cNvPicPr/>
          <p:nvPr/>
        </p:nvPicPr>
        <p:blipFill>
          <a:blip r:embed="rId1"/>
          <a:stretch/>
        </p:blipFill>
        <p:spPr>
          <a:xfrm>
            <a:off x="0" y="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0" name="object 5"/>
          <p:cNvSpPr/>
          <p:nvPr/>
        </p:nvSpPr>
        <p:spPr>
          <a:xfrm>
            <a:off x="577800" y="2230560"/>
            <a:ext cx="5851440" cy="538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61" name="object 7"/>
          <p:cNvSpPr/>
          <p:nvPr/>
        </p:nvSpPr>
        <p:spPr>
          <a:xfrm>
            <a:off x="577800" y="2960640"/>
            <a:ext cx="628164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62"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3"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3" descr=""/>
          <p:cNvPicPr/>
          <p:nvPr/>
        </p:nvPicPr>
        <p:blipFill>
          <a:blip r:embed="rId1"/>
          <a:srcRect l="0" t="11161" r="0" b="0"/>
          <a:stretch/>
        </p:blipFill>
        <p:spPr>
          <a:xfrm>
            <a:off x="0" y="6856560"/>
            <a:ext cx="7556400" cy="503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object 10"/>
          <p:cNvSpPr/>
          <p:nvPr/>
        </p:nvSpPr>
        <p:spPr>
          <a:xfrm>
            <a:off x="654120" y="1765440"/>
            <a:ext cx="3200400" cy="617220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a:t>
            </a:r>
            <a:endParaRPr b="0" lang="en-US" sz="1000" spc="-1" strike="noStrike">
              <a:solidFill>
                <a:srgbClr val="000000"/>
              </a:solidFill>
              <a:latin typeface="Arial"/>
            </a:endParaRPr>
          </a:p>
        </p:txBody>
      </p:sp>
      <p:sp>
        <p:nvSpPr>
          <p:cNvPr id="166"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67" name="Picture 1" descr=""/>
          <p:cNvPicPr/>
          <p:nvPr/>
        </p:nvPicPr>
        <p:blipFill>
          <a:blip r:embed="rId1"/>
          <a:stretch/>
        </p:blipFill>
        <p:spPr>
          <a:xfrm>
            <a:off x="4235400" y="1994040"/>
            <a:ext cx="30481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9"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d9d9d9"/>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0"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d0d0d"/>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1"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72"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4" name="object 5"/>
          <p:cNvSpPr/>
          <p:nvPr/>
        </p:nvSpPr>
        <p:spPr>
          <a:xfrm>
            <a:off x="209880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75" name="object 5"/>
          <p:cNvSpPr/>
          <p:nvPr/>
        </p:nvSpPr>
        <p:spPr>
          <a:xfrm>
            <a:off x="2073240" y="7251840"/>
            <a:ext cx="487692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76" name="Picture 4" descr=""/>
          <p:cNvPicPr/>
          <p:nvPr/>
        </p:nvPicPr>
        <p:blipFill>
          <a:blip r:embed="rId1"/>
          <a:stretch/>
        </p:blipFill>
        <p:spPr>
          <a:xfrm>
            <a:off x="1035000" y="1841400"/>
            <a:ext cx="6095880" cy="405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3:06:53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