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DF5A911-C2F4-4874-9CF5-D569B2E6B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C59E89B-E856-4AEC-932A-9E859DE5C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55B8F85-8797-44D7-8E8F-CB259A8538B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3D8033D-44BD-4824-AEA5-AEA4DF9970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A6A1660B-F287-4D3A-9301-D9F0FD66530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B553333-4C67-4F62-A348-BC2D3BF538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085B870-BE6C-4BB5-A5F3-B31C72DF537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5961ECE-6601-4F81-A17D-CC76D548095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F9E1741-D019-4518-AABF-5EF911FF75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DE284C99-E07A-4048-95CF-DF182E91CF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553A70D-3D50-4D57-94D0-664BB9596B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4438006-A18B-43D7-99CA-551DFBF3E1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E872AE7-C1DF-4389-A03A-6FE3C16F01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38C5AAD-8CD7-41C4-B883-604A784127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A0124CE3-6D9E-44C1-95D4-FF6CDC2754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9DDCC9E-2CF9-484D-ADD6-23753F0C61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62CDB4D0-3129-43EC-B91C-1D835D30E0E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1"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3"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5"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9E8BC9E-F52A-48B2-896A-D66A3EA23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4"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0"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6A2F485-632D-4234-BCD9-A06872793B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9F196D5-38A1-4D96-A098-C0D4D28681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0B4046D-53C5-49A6-9996-53AB362D9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309F469-BE9C-49A2-8073-C6FF753693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B16C1FF-FB89-4192-84D2-379BC3F9D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B386C9B-0DE4-43FA-BAEC-41FFEDA646B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83C8-38AB-4919-878F-33748E5DA36F}"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CF48-B2A0-42D8-BA76-8BD36CD3D678}"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9952-8181-4069-AE09-28C02671CD30}"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F8F3-7E25-49AC-B6AF-163BF8DD68BF}"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031C-F5ED-4F99-A6A1-29E8CCA98A8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rcRect l="0" t="0" r="9275" b="73891"/>
          <a:stretch/>
        </p:blipFill>
        <p:spPr>
          <a:xfrm>
            <a:off x="-44280" y="138240"/>
            <a:ext cx="3593880" cy="990360"/>
          </a:xfrm>
          <a:prstGeom prst="rect">
            <a:avLst/>
          </a:prstGeom>
          <a:ln w="0">
            <a:noFill/>
          </a:ln>
        </p:spPr>
      </p:pic>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8"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Rectangle 189"/>
          <p:cNvSpPr/>
          <p:nvPr/>
        </p:nvSpPr>
        <p:spPr>
          <a:xfrm>
            <a:off x="-27000" y="-14400"/>
            <a:ext cx="7586640" cy="6939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54"/>
          <p:cNvSpPr/>
          <p:nvPr/>
        </p:nvSpPr>
        <p:spPr>
          <a:xfrm>
            <a:off x="324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ject 13"/>
          <p:cNvSpPr/>
          <p:nvPr/>
        </p:nvSpPr>
        <p:spPr>
          <a:xfrm>
            <a:off x="958680" y="6184800"/>
            <a:ext cx="601992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League Gothic"/>
                <a:ea typeface="League Gothic"/>
              </a:rPr>
              <a:t>Landing Page Guide</a:t>
            </a:r>
            <a:endParaRPr b="0" lang="en-US" sz="7200" spc="-1" strike="noStrike">
              <a:solidFill>
                <a:srgbClr val="000000"/>
              </a:solidFill>
              <a:latin typeface="Arial"/>
            </a:endParaRPr>
          </a:p>
        </p:txBody>
      </p:sp>
      <p:sp>
        <p:nvSpPr>
          <p:cNvPr id="129"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0"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1" name="Picture 1" descr=""/>
          <p:cNvPicPr/>
          <p:nvPr/>
        </p:nvPicPr>
        <p:blipFill>
          <a:blip r:embed="rId1"/>
          <a:stretch/>
        </p:blipFill>
        <p:spPr>
          <a:xfrm>
            <a:off x="50760" y="2373480"/>
            <a:ext cx="7537320" cy="34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39"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0"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1698-7145-42F2-B01A-209AA46F5ED6}"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1" name="object 16"/>
          <p:cNvSpPr/>
          <p:nvPr/>
        </p:nvSpPr>
        <p:spPr>
          <a:xfrm>
            <a:off x="5456160" y="3902040"/>
            <a:ext cx="68436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2"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3"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4"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5"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6"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7"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8"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9"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1"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22"/>
          <p:cNvSpPr/>
          <p:nvPr/>
        </p:nvSpPr>
        <p:spPr>
          <a:xfrm>
            <a:off x="882720" y="6006960"/>
            <a:ext cx="576252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pic>
        <p:nvPicPr>
          <p:cNvPr id="158" name="Picture 2" descr=""/>
          <p:cNvPicPr/>
          <p:nvPr/>
        </p:nvPicPr>
        <p:blipFill>
          <a:blip r:embed="rId1"/>
          <a:stretch/>
        </p:blipFill>
        <p:spPr>
          <a:xfrm>
            <a:off x="0" y="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0" name="object 5"/>
          <p:cNvSpPr/>
          <p:nvPr/>
        </p:nvSpPr>
        <p:spPr>
          <a:xfrm>
            <a:off x="577800" y="2230560"/>
            <a:ext cx="5851440" cy="538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61" name="object 7"/>
          <p:cNvSpPr/>
          <p:nvPr/>
        </p:nvSpPr>
        <p:spPr>
          <a:xfrm>
            <a:off x="577800" y="2960640"/>
            <a:ext cx="628164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62"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3"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Picture 3" descr=""/>
          <p:cNvPicPr/>
          <p:nvPr/>
        </p:nvPicPr>
        <p:blipFill>
          <a:blip r:embed="rId1"/>
          <a:srcRect l="0" t="11161" r="0" b="0"/>
          <a:stretch/>
        </p:blipFill>
        <p:spPr>
          <a:xfrm>
            <a:off x="0" y="6856560"/>
            <a:ext cx="7556400" cy="503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object 10"/>
          <p:cNvSpPr/>
          <p:nvPr/>
        </p:nvSpPr>
        <p:spPr>
          <a:xfrm>
            <a:off x="654120" y="1765440"/>
            <a:ext cx="3200400" cy="617220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a:t>
            </a:r>
            <a:endParaRPr b="0" lang="en-US" sz="1000" spc="-1" strike="noStrike">
              <a:solidFill>
                <a:srgbClr val="000000"/>
              </a:solidFill>
              <a:latin typeface="Arial"/>
            </a:endParaRPr>
          </a:p>
        </p:txBody>
      </p:sp>
      <p:sp>
        <p:nvSpPr>
          <p:cNvPr id="166"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67" name="Picture 1" descr=""/>
          <p:cNvPicPr/>
          <p:nvPr/>
        </p:nvPicPr>
        <p:blipFill>
          <a:blip r:embed="rId1"/>
          <a:stretch/>
        </p:blipFill>
        <p:spPr>
          <a:xfrm>
            <a:off x="4235400" y="1994040"/>
            <a:ext cx="30481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9"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d9d9d9"/>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0"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d0d0d"/>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d0d0d"/>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1"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72"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4" name="object 5"/>
          <p:cNvSpPr/>
          <p:nvPr/>
        </p:nvSpPr>
        <p:spPr>
          <a:xfrm>
            <a:off x="209880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75" name="object 5"/>
          <p:cNvSpPr/>
          <p:nvPr/>
        </p:nvSpPr>
        <p:spPr>
          <a:xfrm>
            <a:off x="2073240" y="7251840"/>
            <a:ext cx="487692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76" name="Picture 4" descr=""/>
          <p:cNvPicPr/>
          <p:nvPr/>
        </p:nvPicPr>
        <p:blipFill>
          <a:blip r:embed="rId1"/>
          <a:stretch/>
        </p:blipFill>
        <p:spPr>
          <a:xfrm>
            <a:off x="1035000" y="1841400"/>
            <a:ext cx="6095880" cy="405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3:06:53Z</dcterms:modified>
  <cp:revision>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